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8619-B79E-4C75-9C68-3E25B43F292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[Modern comp. pp 208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2B2-EB54-492C-AEDB-5875E443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50C-BAE2-420E-AAEB-9124CD97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654-0BA1-48A0-8CE1-F3AB72B5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ABD2-A41C-4DFF-8EF8-2DD2D2B8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DE68-DDB6-4697-9D90-D54DC303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36AC-9144-4DE6-90EA-F0C1DF95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9856-CEE4-4771-9651-DB511FEF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5C0A-75C3-4365-8C9A-17FFB510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8544-61AB-4166-BBB6-723A9679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0FA9-2C28-4C09-8196-B830F72F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D6EA-1C2A-4295-B54B-042C7695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A81-B496-4116-A380-D85672D1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C5E9-AFBD-41A4-9EE8-30E0B20F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518D-BB11-49BD-BE1E-7DC4458D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0A93-DA6D-413C-A5E8-7461AA90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185C-D8BA-49F3-9F02-0B4D884E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AC5E-765D-4F25-8399-E1D39D32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AFDF-553B-4D20-BAF6-D74FE9C7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4360-A04E-4857-AD94-BD2D4794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EF87-0514-4D73-9677-6CDD351B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50BB-4B04-4B5C-AF65-A3978F72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6DB3-8A62-4F32-B6D1-E48B71F8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870-1FDA-441F-B5C2-2AB9B6D9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8350-1333-46AB-B6CF-C64A5757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0628-5FC8-4804-919F-36DD729752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56A1-2A71-4F90-8B7C-02FB269B9D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zámítástechnikai alapismertek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Memóriák a tárolt információ megváltoztathatósága szempontjából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97880" y="1874880"/>
            <a:ext cx="3377880" cy="1433160"/>
          </a:xfrm>
          <a:prstGeom prst="rect">
            <a:avLst/>
          </a:pr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tírható (törölhető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RW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Read Write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3880" y="1874880"/>
            <a:ext cx="3821400" cy="1433160"/>
          </a:xfrm>
          <a:prstGeom prst="rect">
            <a:avLst/>
          </a:pr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csak kiolvasható (fix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Read Only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6360" y="4433760"/>
            <a:ext cx="8731800" cy="15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ia kimaradás esetén : felejtő / nem felejt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olvasáskor : törlődő (destruktív) / nem-törlőd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kus / dinamikus (szükséges az információ „mozgatása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9C2-AEA0-4351-AFAE-B3AAADD847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Memóriák hardware felosztása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808520" y="1974960"/>
            <a:ext cx="0" cy="71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367000" y="2687760"/>
            <a:ext cx="2441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63760" y="2690640"/>
            <a:ext cx="0" cy="892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11760" y="2687760"/>
            <a:ext cx="2440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51840" y="2690640"/>
            <a:ext cx="0" cy="892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08640" y="3561840"/>
            <a:ext cx="1111680" cy="579960"/>
          </a:xfrm>
          <a:prstGeom prst="rect">
            <a:avLst/>
          </a:prstGeom>
          <a:solidFill>
            <a:srgbClr val="00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2440" y="3561840"/>
            <a:ext cx="1201680" cy="579960"/>
          </a:xfrm>
          <a:prstGeom prst="rect">
            <a:avLst/>
          </a:prstGeom>
          <a:solidFill>
            <a:srgbClr val="00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W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363760" y="4122720"/>
            <a:ext cx="0" cy="71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873000" y="4836960"/>
            <a:ext cx="1627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67000" y="4836960"/>
            <a:ext cx="1627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70120" y="4840200"/>
            <a:ext cx="0" cy="534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363760" y="4838760"/>
            <a:ext cx="0" cy="534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994200" y="4838760"/>
            <a:ext cx="0" cy="534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0" y="5354280"/>
            <a:ext cx="1657080" cy="579960"/>
          </a:xfrm>
          <a:prstGeom prst="rect">
            <a:avLst/>
          </a:prstGeom>
          <a:solidFill>
            <a:srgbClr val="00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aszko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49320" y="5354280"/>
            <a:ext cx="1337040" cy="579960"/>
          </a:xfrm>
          <a:prstGeom prst="rect">
            <a:avLst/>
          </a:prstGeom>
          <a:solidFill>
            <a:srgbClr val="00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53760" y="5354280"/>
            <a:ext cx="1585440" cy="579960"/>
          </a:xfrm>
          <a:prstGeom prst="rect">
            <a:avLst/>
          </a:prstGeom>
          <a:solidFill>
            <a:srgbClr val="00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P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51840" y="4124160"/>
            <a:ext cx="0" cy="71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61080" y="4836960"/>
            <a:ext cx="1490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54720" y="4836960"/>
            <a:ext cx="1627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57840" y="4840200"/>
            <a:ext cx="0" cy="534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251840" y="4838760"/>
            <a:ext cx="0" cy="534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881920" y="4838760"/>
            <a:ext cx="0" cy="534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89320" y="5354280"/>
            <a:ext cx="1337040" cy="579960"/>
          </a:xfrm>
          <a:prstGeom prst="rect">
            <a:avLst/>
          </a:prstGeom>
          <a:solidFill>
            <a:srgbClr val="00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50200" y="5354280"/>
            <a:ext cx="1405800" cy="579960"/>
          </a:xfrm>
          <a:prstGeom prst="rect">
            <a:avLst/>
          </a:prstGeom>
          <a:solidFill>
            <a:srgbClr val="00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18720" y="5354280"/>
            <a:ext cx="999000" cy="579960"/>
          </a:xfrm>
          <a:prstGeom prst="rect">
            <a:avLst/>
          </a:prstGeom>
          <a:solidFill>
            <a:srgbClr val="00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rr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02120" y="1591920"/>
            <a:ext cx="3412800" cy="579960"/>
          </a:xfrm>
          <a:prstGeom prst="rect">
            <a:avLst/>
          </a:prstGeom>
          <a:solidFill>
            <a:srgbClr val="00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ímezhető memó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3FC9-465F-45F0-BAFF-BCAC0A28ED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ahoma"/>
              </a:rPr>
              <a:t>ROM-ok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ask programmable 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ROM : programmable ROM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(1x cs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PROM : erasable programmable PROM</a:t>
            </a:r>
            <a:br>
              <a:rPr sz="32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(UV fény vagy áram)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476-1EC2-465F-9837-AC2C3AAD5F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ahoma"/>
              </a:rPr>
              <a:t>RWM-ok</a:t>
            </a:r>
            <a:br>
              <a:rPr sz="44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(„RAM”-ok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RAM (statikus RAM) olyan memóriachip, amely állandó feszültség hatására működ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DRAM (dinamikus RAM) az állandó feszültség mellett rendszeres frissítést, kiolvasást igény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AB7-D343-489A-AD42-3F5EBC503A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aritásbites memória ellenőrzé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2514600"/>
            <a:ext cx="1828800" cy="358128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11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1100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1101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0110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10101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10011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0101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001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2514600"/>
            <a:ext cx="533520" cy="3581280"/>
          </a:xfrm>
          <a:prstGeom prst="rect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4724280"/>
            <a:ext cx="533520" cy="457200"/>
          </a:xfrm>
          <a:prstGeom prst="rect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72160" y="1600200"/>
            <a:ext cx="1446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ó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rtal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00240" y="1600200"/>
            <a:ext cx="1132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i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t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724280"/>
            <a:ext cx="1828800" cy="457200"/>
          </a:xfrm>
          <a:prstGeom prst="rect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10011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419720"/>
            <a:ext cx="1833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itás hi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717880" y="4879800"/>
            <a:ext cx="530280" cy="73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ABBD-8798-4535-8C0C-68FBCACF8A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aritás ellenőrző áramkö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539280" y="472428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280" y="525780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55600" y="4791240"/>
            <a:ext cx="2357280" cy="990360"/>
            <a:chOff x="255600" y="4791240"/>
            <a:chExt cx="2357280" cy="990360"/>
          </a:xfrm>
        </p:grpSpPr>
        <p:sp>
          <p:nvSpPr>
            <p:cNvPr id="188" name=""/>
            <p:cNvSpPr/>
            <p:nvPr/>
          </p:nvSpPr>
          <p:spPr>
            <a:xfrm>
              <a:off x="1092240" y="5472000"/>
              <a:ext cx="225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92240" y="5014800"/>
              <a:ext cx="225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87520" y="5243400"/>
              <a:ext cx="225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55600" y="4791240"/>
              <a:ext cx="2133720" cy="990360"/>
              <a:chOff x="255600" y="4791240"/>
              <a:chExt cx="2133720" cy="990360"/>
            </a:xfrm>
          </p:grpSpPr>
          <p:sp>
            <p:nvSpPr>
              <p:cNvPr id="192" name=""/>
              <p:cNvSpPr/>
              <p:nvPr/>
            </p:nvSpPr>
            <p:spPr>
              <a:xfrm>
                <a:off x="1106280" y="4791240"/>
                <a:ext cx="428400" cy="98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0" y="0"/>
                    </a:moveTo>
                    <a:arcTo wR="10800" hR="10800" stAng="-5425464" swAng="54254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0" y="0"/>
                    </a:moveTo>
                    <a:arcTo wR="10800" hR="10800" stAng="-5425464" swAng="5425464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0800000">
                <a:off x="1109520" y="4791240"/>
                <a:ext cx="425160" cy="99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31"/>
                    </a:moveTo>
                    <a:arcTo wR="10800" hR="10800" stAng="-10777963" swAng="53523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31"/>
                    </a:moveTo>
                    <a:arcTo wR="10800" hR="10800" stAng="-10777963" swAng="535230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55600" y="4791240"/>
                <a:ext cx="2133360" cy="98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4" y="0"/>
                    </a:moveTo>
                    <a:arcTo wR="10800" hR="10800" stAng="-5405116" swAng="5405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4" y="0"/>
                    </a:moveTo>
                    <a:arcTo wR="10800" hR="10800" stAng="-5405116" swAng="5405116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0800000">
                <a:off x="255600" y="4791240"/>
                <a:ext cx="2133720" cy="99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31"/>
                    </a:moveTo>
                    <a:arcTo wR="10800" hR="10800" stAng="-10777963" swAng="53728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31"/>
                    </a:moveTo>
                    <a:arcTo wR="10800" hR="10800" stAng="-10777963" swAng="5372847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954000" y="4791240"/>
                <a:ext cx="428400" cy="98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0" y="0"/>
                    </a:moveTo>
                    <a:arcTo wR="10800" hR="10800" stAng="-5425464" swAng="54254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0" y="0"/>
                    </a:moveTo>
                    <a:arcTo wR="10800" hR="10800" stAng="-5425464" swAng="5425464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0800000">
                <a:off x="957240" y="4791240"/>
                <a:ext cx="425160" cy="99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31"/>
                    </a:moveTo>
                    <a:arcTo wR="10800" hR="10800" stAng="-10777963" swAng="53523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31"/>
                    </a:moveTo>
                    <a:arcTo wR="10800" hR="10800" stAng="-10777963" swAng="535230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534240" y="2363760"/>
            <a:ext cx="22287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XOR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917880" y="2289240"/>
            <a:ext cx="1416240" cy="596520"/>
            <a:chOff x="3917880" y="2289240"/>
            <a:chExt cx="1416240" cy="596520"/>
          </a:xfrm>
        </p:grpSpPr>
        <p:sp>
          <p:nvSpPr>
            <p:cNvPr id="200" name=""/>
            <p:cNvSpPr/>
            <p:nvPr/>
          </p:nvSpPr>
          <p:spPr>
            <a:xfrm>
              <a:off x="4422600" y="2697120"/>
              <a:ext cx="13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22600" y="2422440"/>
              <a:ext cx="13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00560" y="2558880"/>
              <a:ext cx="13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3917880" y="2289240"/>
              <a:ext cx="1282320" cy="596520"/>
              <a:chOff x="3917880" y="2289240"/>
              <a:chExt cx="1282320" cy="596520"/>
            </a:xfrm>
          </p:grpSpPr>
          <p:sp>
            <p:nvSpPr>
              <p:cNvPr id="204" name=""/>
              <p:cNvSpPr/>
              <p:nvPr/>
            </p:nvSpPr>
            <p:spPr>
              <a:xfrm>
                <a:off x="4434120" y="2289240"/>
                <a:ext cx="25344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65" y="1"/>
                    </a:moveTo>
                    <a:arcTo wR="10800" hR="10800" stAng="-5442969" swAng="54429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65" y="1"/>
                    </a:moveTo>
                    <a:arcTo wR="10800" hR="10800" stAng="-5442969" swAng="544296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0800000">
                <a:off x="4433760" y="2291400"/>
                <a:ext cx="253800" cy="59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4"/>
                    </a:moveTo>
                    <a:arcTo wR="10800" hR="10800" stAng="-10763234" swAng="53202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4"/>
                    </a:moveTo>
                    <a:arcTo wR="10800" hR="10800" stAng="-10763234" swAng="5320265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917880" y="2289240"/>
                <a:ext cx="128232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3" y="0"/>
                    </a:moveTo>
                    <a:arcTo wR="10800" hR="10800" stAng="-5408509" swAng="54085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3" y="0"/>
                    </a:moveTo>
                    <a:arcTo wR="10800" hR="10800" stAng="-5408509" swAng="540850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0800000">
                <a:off x="3921120" y="2291400"/>
                <a:ext cx="1279080" cy="59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4"/>
                    </a:moveTo>
                    <a:arcTo wR="10800" hR="10800" stAng="-10763234" swAng="53547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4"/>
                    </a:moveTo>
                    <a:arcTo wR="10800" hR="10800" stAng="-10763234" swAng="5354704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39080" y="2289240"/>
                <a:ext cx="25632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67" y="1"/>
                    </a:moveTo>
                    <a:arcTo wR="10800" hR="10800" stAng="-5442439" swAng="5442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67" y="1"/>
                    </a:moveTo>
                    <a:arcTo wR="10800" hR="10800" stAng="-5442439" swAng="544243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0800000">
                <a:off x="4340160" y="2291400"/>
                <a:ext cx="257400" cy="59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4"/>
                    </a:moveTo>
                    <a:arcTo wR="10800" hR="10800" stAng="-10763234" swAng="53207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4"/>
                    </a:moveTo>
                    <a:arcTo wR="10800" hR="10800" stAng="-10763234" swAng="5320795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3917880" y="3813120"/>
            <a:ext cx="1416240" cy="596520"/>
            <a:chOff x="3917880" y="3813120"/>
            <a:chExt cx="1416240" cy="596520"/>
          </a:xfrm>
        </p:grpSpPr>
        <p:sp>
          <p:nvSpPr>
            <p:cNvPr id="211" name=""/>
            <p:cNvSpPr/>
            <p:nvPr/>
          </p:nvSpPr>
          <p:spPr>
            <a:xfrm>
              <a:off x="4422600" y="4221000"/>
              <a:ext cx="13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22600" y="3946680"/>
              <a:ext cx="13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00560" y="4083120"/>
              <a:ext cx="13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917880" y="3813120"/>
              <a:ext cx="1282320" cy="596520"/>
              <a:chOff x="3917880" y="3813120"/>
              <a:chExt cx="1282320" cy="596520"/>
            </a:xfrm>
          </p:grpSpPr>
          <p:sp>
            <p:nvSpPr>
              <p:cNvPr id="215" name=""/>
              <p:cNvSpPr/>
              <p:nvPr/>
            </p:nvSpPr>
            <p:spPr>
              <a:xfrm>
                <a:off x="4434120" y="3813120"/>
                <a:ext cx="25344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65" y="1"/>
                    </a:moveTo>
                    <a:arcTo wR="10800" hR="10800" stAng="-5442969" swAng="54429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65" y="1"/>
                    </a:moveTo>
                    <a:arcTo wR="10800" hR="10800" stAng="-5442969" swAng="544296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0800000">
                <a:off x="4433760" y="3814560"/>
                <a:ext cx="253800" cy="59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4"/>
                    </a:moveTo>
                    <a:arcTo wR="10800" hR="10800" stAng="-10763234" swAng="53202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4"/>
                    </a:moveTo>
                    <a:arcTo wR="10800" hR="10800" stAng="-10763234" swAng="5320265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17880" y="3813120"/>
                <a:ext cx="128232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3" y="0"/>
                    </a:moveTo>
                    <a:arcTo wR="10800" hR="10800" stAng="-5408509" swAng="54085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3" y="0"/>
                    </a:moveTo>
                    <a:arcTo wR="10800" hR="10800" stAng="-5408509" swAng="540850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0800000">
                <a:off x="3921120" y="3814560"/>
                <a:ext cx="1279080" cy="59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4"/>
                    </a:moveTo>
                    <a:arcTo wR="10800" hR="10800" stAng="-10763234" swAng="53547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4"/>
                    </a:moveTo>
                    <a:arcTo wR="10800" hR="10800" stAng="-10763234" swAng="5354704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39080" y="3813120"/>
                <a:ext cx="25632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67" y="1"/>
                    </a:moveTo>
                    <a:arcTo wR="10800" hR="10800" stAng="-5442439" swAng="5442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67" y="1"/>
                    </a:moveTo>
                    <a:arcTo wR="10800" hR="10800" stAng="-5442439" swAng="544243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0800000">
                <a:off x="4340160" y="3814560"/>
                <a:ext cx="257400" cy="59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4"/>
                    </a:moveTo>
                    <a:arcTo wR="10800" hR="10800" stAng="-10763234" swAng="53207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4"/>
                    </a:moveTo>
                    <a:arcTo wR="10800" hR="10800" stAng="-10763234" swAng="5320795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3917880" y="4575240"/>
            <a:ext cx="1416240" cy="596520"/>
            <a:chOff x="3917880" y="4575240"/>
            <a:chExt cx="1416240" cy="596520"/>
          </a:xfrm>
        </p:grpSpPr>
        <p:sp>
          <p:nvSpPr>
            <p:cNvPr id="222" name=""/>
            <p:cNvSpPr/>
            <p:nvPr/>
          </p:nvSpPr>
          <p:spPr>
            <a:xfrm>
              <a:off x="4422600" y="4983120"/>
              <a:ext cx="13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22600" y="4708440"/>
              <a:ext cx="13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00560" y="4844880"/>
              <a:ext cx="13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917880" y="4575240"/>
              <a:ext cx="1282320" cy="596520"/>
              <a:chOff x="3917880" y="4575240"/>
              <a:chExt cx="1282320" cy="596520"/>
            </a:xfrm>
          </p:grpSpPr>
          <p:sp>
            <p:nvSpPr>
              <p:cNvPr id="226" name=""/>
              <p:cNvSpPr/>
              <p:nvPr/>
            </p:nvSpPr>
            <p:spPr>
              <a:xfrm>
                <a:off x="4434120" y="4575240"/>
                <a:ext cx="25344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65" y="1"/>
                    </a:moveTo>
                    <a:arcTo wR="10800" hR="10800" stAng="-5442969" swAng="54429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65" y="1"/>
                    </a:moveTo>
                    <a:arcTo wR="10800" hR="10800" stAng="-5442969" swAng="544296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0800000">
                <a:off x="4433760" y="4577400"/>
                <a:ext cx="253800" cy="59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4"/>
                    </a:moveTo>
                    <a:arcTo wR="10800" hR="10800" stAng="-10763234" swAng="53202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4"/>
                    </a:moveTo>
                    <a:arcTo wR="10800" hR="10800" stAng="-10763234" swAng="5320265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17880" y="4575240"/>
                <a:ext cx="128232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3" y="0"/>
                    </a:moveTo>
                    <a:arcTo wR="10800" hR="10800" stAng="-5408509" swAng="54085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3" y="0"/>
                    </a:moveTo>
                    <a:arcTo wR="10800" hR="10800" stAng="-5408509" swAng="540850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0800000">
                <a:off x="3921120" y="4577400"/>
                <a:ext cx="1279080" cy="59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4"/>
                    </a:moveTo>
                    <a:arcTo wR="10800" hR="10800" stAng="-10763234" swAng="53547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4"/>
                    </a:moveTo>
                    <a:arcTo wR="10800" hR="10800" stAng="-10763234" swAng="5354704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339080" y="4575240"/>
                <a:ext cx="25632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67" y="1"/>
                    </a:moveTo>
                    <a:arcTo wR="10800" hR="10800" stAng="-5442439" swAng="5442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67" y="1"/>
                    </a:moveTo>
                    <a:arcTo wR="10800" hR="10800" stAng="-5442439" swAng="544243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0800000">
                <a:off x="4340160" y="4577400"/>
                <a:ext cx="257400" cy="59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4"/>
                    </a:moveTo>
                    <a:arcTo wR="10800" hR="10800" stAng="-10763234" swAng="53207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4"/>
                    </a:moveTo>
                    <a:arcTo wR="10800" hR="10800" stAng="-10763234" swAng="5320795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917880" y="3051000"/>
            <a:ext cx="1416240" cy="597240"/>
            <a:chOff x="3917880" y="3051000"/>
            <a:chExt cx="1416240" cy="597240"/>
          </a:xfrm>
        </p:grpSpPr>
        <p:sp>
          <p:nvSpPr>
            <p:cNvPr id="233" name=""/>
            <p:cNvSpPr/>
            <p:nvPr/>
          </p:nvSpPr>
          <p:spPr>
            <a:xfrm>
              <a:off x="4422600" y="3459240"/>
              <a:ext cx="13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22600" y="3184560"/>
              <a:ext cx="13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00560" y="3321000"/>
              <a:ext cx="13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917880" y="3051000"/>
              <a:ext cx="1282320" cy="597240"/>
              <a:chOff x="3917880" y="3051000"/>
              <a:chExt cx="1282320" cy="597240"/>
            </a:xfrm>
          </p:grpSpPr>
          <p:sp>
            <p:nvSpPr>
              <p:cNvPr id="237" name=""/>
              <p:cNvSpPr/>
              <p:nvPr/>
            </p:nvSpPr>
            <p:spPr>
              <a:xfrm>
                <a:off x="4434120" y="3051000"/>
                <a:ext cx="253440" cy="59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65" y="1"/>
                    </a:moveTo>
                    <a:arcTo wR="10800" hR="10800" stAng="-5442969" swAng="54429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65" y="1"/>
                    </a:moveTo>
                    <a:arcTo wR="10800" hR="10800" stAng="-5442969" swAng="544296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0800000">
                <a:off x="4433760" y="3053520"/>
                <a:ext cx="253800" cy="59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4"/>
                    </a:moveTo>
                    <a:arcTo wR="10800" hR="10800" stAng="-10763234" swAng="53202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4"/>
                    </a:moveTo>
                    <a:arcTo wR="10800" hR="10800" stAng="-10763234" swAng="5320265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917880" y="3051000"/>
                <a:ext cx="1282320" cy="59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3" y="0"/>
                    </a:moveTo>
                    <a:arcTo wR="10800" hR="10800" stAng="-5408509" swAng="54085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3" y="0"/>
                    </a:moveTo>
                    <a:arcTo wR="10800" hR="10800" stAng="-5408509" swAng="540850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0800000">
                <a:off x="3921120" y="3053520"/>
                <a:ext cx="1279080" cy="59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4"/>
                    </a:moveTo>
                    <a:arcTo wR="10800" hR="10800" stAng="-10763234" swAng="53547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4"/>
                    </a:moveTo>
                    <a:arcTo wR="10800" hR="10800" stAng="-10763234" swAng="5354704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339080" y="3051000"/>
                <a:ext cx="256320" cy="59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67" y="1"/>
                    </a:moveTo>
                    <a:arcTo wR="10800" hR="10800" stAng="-5442439" swAng="5442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67" y="1"/>
                    </a:moveTo>
                    <a:arcTo wR="10800" hR="10800" stAng="-5442439" swAng="544243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0800000">
                <a:off x="4340160" y="3053520"/>
                <a:ext cx="257400" cy="59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4"/>
                    </a:moveTo>
                    <a:arcTo wR="10800" hR="10800" stAng="-10763234" swAng="53207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4"/>
                    </a:moveTo>
                    <a:arcTo wR="10800" hR="10800" stAng="-10763234" swAng="5320795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"/>
          <p:cNvGrpSpPr/>
          <p:nvPr/>
        </p:nvGrpSpPr>
        <p:grpSpPr>
          <a:xfrm>
            <a:off x="5060880" y="2975040"/>
            <a:ext cx="1416240" cy="596520"/>
            <a:chOff x="5060880" y="2975040"/>
            <a:chExt cx="1416240" cy="596520"/>
          </a:xfrm>
        </p:grpSpPr>
        <p:sp>
          <p:nvSpPr>
            <p:cNvPr id="244" name=""/>
            <p:cNvSpPr/>
            <p:nvPr/>
          </p:nvSpPr>
          <p:spPr>
            <a:xfrm>
              <a:off x="5565600" y="3382920"/>
              <a:ext cx="13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65600" y="3108240"/>
              <a:ext cx="13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43560" y="3244680"/>
              <a:ext cx="13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5060880" y="2975040"/>
              <a:ext cx="1282320" cy="596520"/>
              <a:chOff x="5060880" y="2975040"/>
              <a:chExt cx="1282320" cy="596520"/>
            </a:xfrm>
          </p:grpSpPr>
          <p:sp>
            <p:nvSpPr>
              <p:cNvPr id="248" name=""/>
              <p:cNvSpPr/>
              <p:nvPr/>
            </p:nvSpPr>
            <p:spPr>
              <a:xfrm>
                <a:off x="5577120" y="2975040"/>
                <a:ext cx="25344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65" y="1"/>
                    </a:moveTo>
                    <a:arcTo wR="10800" hR="10800" stAng="-5442969" swAng="54429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65" y="1"/>
                    </a:moveTo>
                    <a:arcTo wR="10800" hR="10800" stAng="-5442969" swAng="544296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0800000">
                <a:off x="5576760" y="2977200"/>
                <a:ext cx="253800" cy="59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4"/>
                    </a:moveTo>
                    <a:arcTo wR="10800" hR="10800" stAng="-10763234" swAng="53202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4"/>
                    </a:moveTo>
                    <a:arcTo wR="10800" hR="10800" stAng="-10763234" swAng="5320265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060880" y="2975040"/>
                <a:ext cx="128232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3" y="0"/>
                    </a:moveTo>
                    <a:arcTo wR="10800" hR="10800" stAng="-5408509" swAng="54085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3" y="0"/>
                    </a:moveTo>
                    <a:arcTo wR="10800" hR="10800" stAng="-5408509" swAng="540850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0800000">
                <a:off x="5064120" y="2977200"/>
                <a:ext cx="1279080" cy="59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4"/>
                    </a:moveTo>
                    <a:arcTo wR="10800" hR="10800" stAng="-10763234" swAng="53547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4"/>
                    </a:moveTo>
                    <a:arcTo wR="10800" hR="10800" stAng="-10763234" swAng="5354704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82080" y="2975040"/>
                <a:ext cx="25632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67" y="1"/>
                    </a:moveTo>
                    <a:arcTo wR="10800" hR="10800" stAng="-5442439" swAng="5442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67" y="1"/>
                    </a:moveTo>
                    <a:arcTo wR="10800" hR="10800" stAng="-5442439" swAng="544243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0800000">
                <a:off x="5483160" y="2977200"/>
                <a:ext cx="257400" cy="59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4"/>
                    </a:moveTo>
                    <a:arcTo wR="10800" hR="10800" stAng="-10763234" swAng="53207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4"/>
                    </a:moveTo>
                    <a:arcTo wR="10800" hR="10800" stAng="-10763234" swAng="5320795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5060880" y="3813120"/>
            <a:ext cx="1416240" cy="596520"/>
            <a:chOff x="5060880" y="3813120"/>
            <a:chExt cx="1416240" cy="596520"/>
          </a:xfrm>
        </p:grpSpPr>
        <p:sp>
          <p:nvSpPr>
            <p:cNvPr id="255" name=""/>
            <p:cNvSpPr/>
            <p:nvPr/>
          </p:nvSpPr>
          <p:spPr>
            <a:xfrm>
              <a:off x="5565600" y="4221000"/>
              <a:ext cx="13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65600" y="3946680"/>
              <a:ext cx="13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43560" y="4083120"/>
              <a:ext cx="13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5060880" y="3813120"/>
              <a:ext cx="1282320" cy="596520"/>
              <a:chOff x="5060880" y="3813120"/>
              <a:chExt cx="1282320" cy="596520"/>
            </a:xfrm>
          </p:grpSpPr>
          <p:sp>
            <p:nvSpPr>
              <p:cNvPr id="259" name=""/>
              <p:cNvSpPr/>
              <p:nvPr/>
            </p:nvSpPr>
            <p:spPr>
              <a:xfrm>
                <a:off x="5577120" y="3813120"/>
                <a:ext cx="25344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65" y="1"/>
                    </a:moveTo>
                    <a:arcTo wR="10800" hR="10800" stAng="-5442969" swAng="54429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65" y="1"/>
                    </a:moveTo>
                    <a:arcTo wR="10800" hR="10800" stAng="-5442969" swAng="544296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0800000">
                <a:off x="5576760" y="3814560"/>
                <a:ext cx="253800" cy="59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4"/>
                    </a:moveTo>
                    <a:arcTo wR="10800" hR="10800" stAng="-10763234" swAng="53202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4"/>
                    </a:moveTo>
                    <a:arcTo wR="10800" hR="10800" stAng="-10763234" swAng="5320265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060880" y="3813120"/>
                <a:ext cx="128232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3" y="0"/>
                    </a:moveTo>
                    <a:arcTo wR="10800" hR="10800" stAng="-5408509" swAng="54085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3" y="0"/>
                    </a:moveTo>
                    <a:arcTo wR="10800" hR="10800" stAng="-5408509" swAng="540850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0800000">
                <a:off x="5064120" y="3814560"/>
                <a:ext cx="1279080" cy="59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4"/>
                    </a:moveTo>
                    <a:arcTo wR="10800" hR="10800" stAng="-10763234" swAng="53547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4"/>
                    </a:moveTo>
                    <a:arcTo wR="10800" hR="10800" stAng="-10763234" swAng="5354704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482080" y="3813120"/>
                <a:ext cx="25632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67" y="1"/>
                    </a:moveTo>
                    <a:arcTo wR="10800" hR="10800" stAng="-5442439" swAng="5442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67" y="1"/>
                    </a:moveTo>
                    <a:arcTo wR="10800" hR="10800" stAng="-5442439" swAng="544243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0800000">
                <a:off x="5483160" y="3814560"/>
                <a:ext cx="257400" cy="59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4"/>
                    </a:moveTo>
                    <a:arcTo wR="10800" hR="10800" stAng="-10763234" swAng="53207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4"/>
                    </a:moveTo>
                    <a:arcTo wR="10800" hR="10800" stAng="-10763234" swAng="5320795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6127920" y="3432240"/>
            <a:ext cx="1415880" cy="596520"/>
            <a:chOff x="6127920" y="3432240"/>
            <a:chExt cx="1415880" cy="596520"/>
          </a:xfrm>
        </p:grpSpPr>
        <p:sp>
          <p:nvSpPr>
            <p:cNvPr id="266" name=""/>
            <p:cNvSpPr/>
            <p:nvPr/>
          </p:nvSpPr>
          <p:spPr>
            <a:xfrm>
              <a:off x="6632640" y="3840120"/>
              <a:ext cx="133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32640" y="3565440"/>
              <a:ext cx="133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10600" y="3701880"/>
              <a:ext cx="133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127920" y="3432240"/>
              <a:ext cx="1282680" cy="596520"/>
              <a:chOff x="6127920" y="3432240"/>
              <a:chExt cx="1282680" cy="596520"/>
            </a:xfrm>
          </p:grpSpPr>
          <p:sp>
            <p:nvSpPr>
              <p:cNvPr id="270" name=""/>
              <p:cNvSpPr/>
              <p:nvPr/>
            </p:nvSpPr>
            <p:spPr>
              <a:xfrm>
                <a:off x="6643800" y="3432240"/>
                <a:ext cx="25344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65" y="1"/>
                    </a:moveTo>
                    <a:arcTo wR="10800" hR="10800" stAng="-5442969" swAng="54429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65" y="1"/>
                    </a:moveTo>
                    <a:arcTo wR="10800" hR="10800" stAng="-5442969" swAng="544296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0800000">
                <a:off x="6643440" y="3434400"/>
                <a:ext cx="253800" cy="59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4"/>
                    </a:moveTo>
                    <a:arcTo wR="10800" hR="10800" stAng="-10763234" swAng="53202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4"/>
                    </a:moveTo>
                    <a:arcTo wR="10800" hR="10800" stAng="-10763234" swAng="5320265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127920" y="3432240"/>
                <a:ext cx="128232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3" y="0"/>
                    </a:moveTo>
                    <a:arcTo wR="10800" hR="10800" stAng="-5408509" swAng="54085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3" y="0"/>
                    </a:moveTo>
                    <a:arcTo wR="10800" hR="10800" stAng="-5408509" swAng="540850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0800000">
                <a:off x="6130800" y="3434400"/>
                <a:ext cx="1279800" cy="59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4"/>
                    </a:moveTo>
                    <a:arcTo wR="10800" hR="10800" stAng="-10763234" swAng="53547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4"/>
                    </a:moveTo>
                    <a:arcTo wR="10800" hR="10800" stAng="-10763234" swAng="5354704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48760" y="3432240"/>
                <a:ext cx="25632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67" y="1"/>
                    </a:moveTo>
                    <a:arcTo wR="10800" hR="10800" stAng="-5442439" swAng="5442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67" y="1"/>
                    </a:moveTo>
                    <a:arcTo wR="10800" hR="10800" stAng="-5442439" swAng="544243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0800000">
                <a:off x="6550200" y="3434400"/>
                <a:ext cx="256680" cy="59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4"/>
                    </a:moveTo>
                    <a:arcTo wR="10800" hR="10800" stAng="-10763234" swAng="53207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4"/>
                    </a:moveTo>
                    <a:arcTo wR="10800" hR="10800" stAng="-10763234" swAng="5320795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76" name=""/>
          <p:cNvGrpSpPr/>
          <p:nvPr/>
        </p:nvGrpSpPr>
        <p:grpSpPr>
          <a:xfrm>
            <a:off x="7423200" y="5184720"/>
            <a:ext cx="1415880" cy="596520"/>
            <a:chOff x="7423200" y="5184720"/>
            <a:chExt cx="1415880" cy="596520"/>
          </a:xfrm>
        </p:grpSpPr>
        <p:sp>
          <p:nvSpPr>
            <p:cNvPr id="277" name=""/>
            <p:cNvSpPr/>
            <p:nvPr/>
          </p:nvSpPr>
          <p:spPr>
            <a:xfrm>
              <a:off x="7927920" y="5592600"/>
              <a:ext cx="13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27920" y="5318280"/>
              <a:ext cx="13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705880" y="5454720"/>
              <a:ext cx="133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423200" y="5184720"/>
              <a:ext cx="1282320" cy="596520"/>
              <a:chOff x="7423200" y="5184720"/>
              <a:chExt cx="1282320" cy="596520"/>
            </a:xfrm>
          </p:grpSpPr>
          <p:sp>
            <p:nvSpPr>
              <p:cNvPr id="281" name=""/>
              <p:cNvSpPr/>
              <p:nvPr/>
            </p:nvSpPr>
            <p:spPr>
              <a:xfrm>
                <a:off x="7938720" y="5184720"/>
                <a:ext cx="25416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65" y="1"/>
                    </a:moveTo>
                    <a:arcTo wR="10800" hR="10800" stAng="-5442969" swAng="54429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65" y="1"/>
                    </a:moveTo>
                    <a:arcTo wR="10800" hR="10800" stAng="-5442969" swAng="544296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0800000">
                <a:off x="7939080" y="5186160"/>
                <a:ext cx="253800" cy="59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4"/>
                    </a:moveTo>
                    <a:arcTo wR="10800" hR="10800" stAng="-10763234" swAng="53202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4"/>
                    </a:moveTo>
                    <a:arcTo wR="10800" hR="10800" stAng="-10763234" swAng="5320265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423200" y="5184720"/>
                <a:ext cx="128232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3" y="0"/>
                    </a:moveTo>
                    <a:arcTo wR="10800" hR="10800" stAng="-5408509" swAng="54085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3" y="0"/>
                    </a:moveTo>
                    <a:arcTo wR="10800" hR="10800" stAng="-5408509" swAng="540850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0800000">
                <a:off x="7426440" y="5186160"/>
                <a:ext cx="1279080" cy="59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4"/>
                    </a:moveTo>
                    <a:arcTo wR="10800" hR="10800" stAng="-10763234" swAng="53547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4"/>
                    </a:moveTo>
                    <a:arcTo wR="10800" hR="10800" stAng="-10763234" swAng="5354704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843680" y="5184720"/>
                <a:ext cx="25704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67" y="1"/>
                    </a:moveTo>
                    <a:arcTo wR="10800" hR="10800" stAng="-5442439" swAng="5442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67" y="1"/>
                    </a:moveTo>
                    <a:arcTo wR="10800" hR="10800" stAng="-5442439" swAng="544243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0800000">
                <a:off x="7845480" y="5186160"/>
                <a:ext cx="256680" cy="59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4"/>
                    </a:moveTo>
                    <a:arcTo wR="10800" hR="10800" stAng="-10763234" swAng="53207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4"/>
                    </a:moveTo>
                    <a:arcTo wR="10800" hR="10800" stAng="-10763234" swAng="5320795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>
            <a:off x="5337000" y="2517840"/>
            <a:ext cx="225720" cy="606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37000" y="3352680"/>
            <a:ext cx="225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335560" y="3963600"/>
            <a:ext cx="225360" cy="149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335560" y="4192560"/>
            <a:ext cx="225360" cy="682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402240" y="3811680"/>
            <a:ext cx="22572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80000" y="3279600"/>
            <a:ext cx="14940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47040" y="3660840"/>
            <a:ext cx="377640" cy="1673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422600" y="5562720"/>
            <a:ext cx="3502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85120" y="2209680"/>
            <a:ext cx="54180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31400" y="5562720"/>
            <a:ext cx="275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árolt paritás” 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94440" y="2286000"/>
            <a:ext cx="264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zámolt paritá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622-0DCD-4DC5-B862-42D2144B41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871280"/>
            <a:ext cx="7772400" cy="142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Memóriák megvalósítása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W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ED87-CA4D-4665-ABD6-C56A95146B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multiplexeres tároló...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838080" y="1447920"/>
            <a:ext cx="4910400" cy="5091120"/>
            <a:chOff x="838080" y="1447920"/>
            <a:chExt cx="4910400" cy="5091120"/>
          </a:xfrm>
        </p:grpSpPr>
        <p:sp>
          <p:nvSpPr>
            <p:cNvPr id="302" name=""/>
            <p:cNvSpPr/>
            <p:nvPr/>
          </p:nvSpPr>
          <p:spPr>
            <a:xfrm>
              <a:off x="3273120" y="1676520"/>
              <a:ext cx="1371600" cy="3733560"/>
            </a:xfrm>
            <a:prstGeom prst="rect">
              <a:avLst/>
            </a:prstGeom>
            <a:solidFill>
              <a:srgbClr val="5e588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UX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8-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58920" y="5413320"/>
              <a:ext cx="0" cy="606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78040" y="5413320"/>
              <a:ext cx="0" cy="606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40160" y="5413320"/>
              <a:ext cx="0" cy="606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72760" y="6019920"/>
              <a:ext cx="1367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2 a1 a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47960" y="3581280"/>
              <a:ext cx="9111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06480" y="3581280"/>
              <a:ext cx="34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42640" y="1905120"/>
              <a:ext cx="2130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66880" y="2362320"/>
              <a:ext cx="606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42640" y="2895480"/>
              <a:ext cx="2130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42640" y="3352680"/>
              <a:ext cx="2130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66880" y="3809880"/>
              <a:ext cx="606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66880" y="4267080"/>
              <a:ext cx="606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42640" y="4724280"/>
              <a:ext cx="2130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42640" y="5181480"/>
              <a:ext cx="2130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8080" y="6019920"/>
              <a:ext cx="606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1139760" y="1906200"/>
              <a:ext cx="0" cy="4111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1977840" y="2136600"/>
              <a:ext cx="641520" cy="530280"/>
              <a:chOff x="1977840" y="2136600"/>
              <a:chExt cx="641520" cy="530280"/>
            </a:xfrm>
          </p:grpSpPr>
          <p:sp>
            <p:nvSpPr>
              <p:cNvPr id="320" name=""/>
              <p:cNvSpPr/>
              <p:nvPr/>
            </p:nvSpPr>
            <p:spPr>
              <a:xfrm>
                <a:off x="1977840" y="2136600"/>
                <a:ext cx="0" cy="530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981080" y="2136600"/>
                <a:ext cx="530280" cy="2638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1979280" y="2401920"/>
                <a:ext cx="5302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517480" y="2330280"/>
                <a:ext cx="101880" cy="10188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1142640" y="2362320"/>
              <a:ext cx="835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977840" y="3584520"/>
              <a:ext cx="641520" cy="530280"/>
              <a:chOff x="1977840" y="3584520"/>
              <a:chExt cx="641520" cy="530280"/>
            </a:xfrm>
          </p:grpSpPr>
          <p:sp>
            <p:nvSpPr>
              <p:cNvPr id="326" name=""/>
              <p:cNvSpPr/>
              <p:nvPr/>
            </p:nvSpPr>
            <p:spPr>
              <a:xfrm>
                <a:off x="1977840" y="3584520"/>
                <a:ext cx="0" cy="530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981080" y="3584520"/>
                <a:ext cx="5302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1979280" y="3849840"/>
                <a:ext cx="5302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517480" y="3778200"/>
                <a:ext cx="101880" cy="101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142640" y="3809880"/>
              <a:ext cx="835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1977840" y="4041720"/>
              <a:ext cx="641520" cy="530280"/>
              <a:chOff x="1977840" y="4041720"/>
              <a:chExt cx="641520" cy="530280"/>
            </a:xfrm>
          </p:grpSpPr>
          <p:sp>
            <p:nvSpPr>
              <p:cNvPr id="332" name=""/>
              <p:cNvSpPr/>
              <p:nvPr/>
            </p:nvSpPr>
            <p:spPr>
              <a:xfrm>
                <a:off x="1977840" y="4041720"/>
                <a:ext cx="0" cy="530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981080" y="4041720"/>
                <a:ext cx="5302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1979280" y="4307040"/>
                <a:ext cx="5302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17480" y="4235400"/>
                <a:ext cx="101880" cy="101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1142640" y="4267080"/>
              <a:ext cx="835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62560" y="144792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d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62560" y="47242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d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662560" y="42670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d6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62560" y="38098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d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62560" y="33526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d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62560" y="190512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d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2560" y="24382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d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662560" y="28954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d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977480" y="6019920"/>
              <a:ext cx="1356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ímzés :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7718040" y="1685880"/>
            <a:ext cx="358920" cy="350676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58720" y="1676520"/>
            <a:ext cx="71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1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1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1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94760" y="534348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a2 a1 a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7FC-98C5-4F0E-B848-9F8DA663F1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ahoma"/>
              </a:rPr>
              <a:t>„</a:t>
            </a:r>
            <a:r>
              <a:rPr b="0" lang="hu-HU" sz="4400" spc="-1" strike="noStrike">
                <a:solidFill>
                  <a:srgbClr val="ffff00"/>
                </a:solidFill>
                <a:latin typeface="Tahoma"/>
              </a:rPr>
              <a:t>egyeniráyító” (dióda)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4427640" y="2670120"/>
            <a:ext cx="0" cy="758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30880" y="2670120"/>
            <a:ext cx="666720" cy="378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429080" y="3049560"/>
            <a:ext cx="666720" cy="378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097600" y="2670120"/>
            <a:ext cx="0" cy="758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00480" y="3048120"/>
            <a:ext cx="1605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22400" y="3048120"/>
            <a:ext cx="1605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27640" y="5337000"/>
            <a:ext cx="0" cy="758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30880" y="5337000"/>
            <a:ext cx="666720" cy="378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429080" y="5716440"/>
            <a:ext cx="666720" cy="378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97600" y="5337000"/>
            <a:ext cx="0" cy="758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00480" y="5715000"/>
            <a:ext cx="1605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822400" y="5715000"/>
            <a:ext cx="1605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978280" y="2063880"/>
            <a:ext cx="3568680" cy="368280"/>
          </a:xfrm>
          <a:prstGeom prst="rightArrow">
            <a:avLst>
              <a:gd name="adj1" fmla="val 50000"/>
              <a:gd name="adj2" fmla="val 132028"/>
            </a:avLst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78280" y="4578480"/>
            <a:ext cx="3568680" cy="368280"/>
          </a:xfrm>
          <a:prstGeom prst="leftArrow">
            <a:avLst>
              <a:gd name="adj1" fmla="val 50000"/>
              <a:gd name="adj2" fmla="val 131579"/>
            </a:avLst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70320" y="4346640"/>
            <a:ext cx="911160" cy="91116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269960" y="4346640"/>
            <a:ext cx="911160" cy="91116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37720" y="1903320"/>
            <a:ext cx="1134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á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6C9-4936-43D1-AE6E-FE80D37C57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ahoma"/>
              </a:rPr>
              <a:t>„</a:t>
            </a:r>
            <a:r>
              <a:rPr b="0" lang="hu-HU" sz="4400" spc="-1" strike="noStrike">
                <a:solidFill>
                  <a:srgbClr val="ffff00"/>
                </a:solidFill>
                <a:latin typeface="Tahoma"/>
              </a:rPr>
              <a:t>maszkolt” ROM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145880" y="1601640"/>
            <a:ext cx="7769520" cy="4113360"/>
            <a:chOff x="1145880" y="1601640"/>
            <a:chExt cx="7769520" cy="4113360"/>
          </a:xfrm>
        </p:grpSpPr>
        <p:sp>
          <p:nvSpPr>
            <p:cNvPr id="369" name=""/>
            <p:cNvSpPr/>
            <p:nvPr/>
          </p:nvSpPr>
          <p:spPr>
            <a:xfrm>
              <a:off x="3048120" y="1601640"/>
              <a:ext cx="0" cy="4113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00600" y="1601640"/>
              <a:ext cx="0" cy="4113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53080" y="1601640"/>
              <a:ext cx="0" cy="4113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46240" y="2133720"/>
              <a:ext cx="77691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03440" y="2136600"/>
              <a:ext cx="301680" cy="301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89240" y="2822400"/>
              <a:ext cx="225360" cy="225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679400" y="2212920"/>
              <a:ext cx="454320" cy="453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2134800" y="2211480"/>
              <a:ext cx="149400" cy="606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79400" y="2670120"/>
              <a:ext cx="606600" cy="14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2060280" y="2593800"/>
              <a:ext cx="453960" cy="454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17840" y="3051000"/>
              <a:ext cx="301680" cy="30168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22400" y="3355920"/>
              <a:ext cx="225720" cy="225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1145880" y="3886200"/>
              <a:ext cx="77691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5920" y="2136600"/>
              <a:ext cx="301680" cy="301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41720" y="2822400"/>
              <a:ext cx="225360" cy="225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3431880" y="2212920"/>
              <a:ext cx="453960" cy="453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flipV="1">
              <a:off x="3887280" y="2211480"/>
              <a:ext cx="149400" cy="606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32240" y="2670120"/>
              <a:ext cx="606240" cy="14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3812760" y="2593800"/>
              <a:ext cx="453960" cy="454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75240" y="3355920"/>
              <a:ext cx="225360" cy="225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08400" y="2136600"/>
              <a:ext cx="301680" cy="301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94200" y="2822400"/>
              <a:ext cx="225720" cy="225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184360" y="2212920"/>
              <a:ext cx="453960" cy="453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5640480" y="2211480"/>
              <a:ext cx="149040" cy="606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4720" y="2670120"/>
              <a:ext cx="606600" cy="14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565600" y="2593800"/>
              <a:ext cx="454320" cy="454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22800" y="3051000"/>
              <a:ext cx="301680" cy="30168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27720" y="3355920"/>
              <a:ext cx="225360" cy="225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03440" y="3889440"/>
              <a:ext cx="301680" cy="301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89240" y="4575240"/>
              <a:ext cx="225360" cy="225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1679400" y="3965400"/>
              <a:ext cx="454320" cy="454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2134800" y="3963600"/>
              <a:ext cx="149400" cy="606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79400" y="4422600"/>
              <a:ext cx="606600" cy="14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060280" y="4346640"/>
              <a:ext cx="453960" cy="453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22400" y="5108400"/>
              <a:ext cx="225720" cy="225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355920" y="3889440"/>
              <a:ext cx="301680" cy="301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41720" y="4575240"/>
              <a:ext cx="225360" cy="225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431880" y="3965400"/>
              <a:ext cx="453960" cy="454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3887280" y="3963600"/>
              <a:ext cx="149400" cy="606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32240" y="4422600"/>
              <a:ext cx="606240" cy="14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3812760" y="4346640"/>
              <a:ext cx="453960" cy="453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75240" y="5108400"/>
              <a:ext cx="225360" cy="225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108400" y="3889440"/>
              <a:ext cx="301680" cy="301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94200" y="4575240"/>
              <a:ext cx="225720" cy="225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184360" y="3965400"/>
              <a:ext cx="453960" cy="454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5640480" y="3963600"/>
              <a:ext cx="149040" cy="606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84720" y="4422600"/>
              <a:ext cx="606600" cy="14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565600" y="4346640"/>
              <a:ext cx="454320" cy="453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17840" y="4803840"/>
              <a:ext cx="301680" cy="30168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27720" y="5108400"/>
              <a:ext cx="225360" cy="225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05920" y="1601640"/>
              <a:ext cx="0" cy="4113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61240" y="2136600"/>
              <a:ext cx="301680" cy="301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47040" y="2822400"/>
              <a:ext cx="225360" cy="225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937200" y="2212920"/>
              <a:ext cx="454320" cy="453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7392600" y="2211480"/>
              <a:ext cx="149400" cy="606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937200" y="2670120"/>
              <a:ext cx="606600" cy="14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7318080" y="2593800"/>
              <a:ext cx="453960" cy="454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080200" y="3355920"/>
              <a:ext cx="225720" cy="225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861240" y="3889440"/>
              <a:ext cx="301680" cy="301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47040" y="4575240"/>
              <a:ext cx="225360" cy="225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937200" y="3965400"/>
              <a:ext cx="454320" cy="454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7392600" y="3963600"/>
              <a:ext cx="149400" cy="606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37200" y="4422600"/>
              <a:ext cx="606600" cy="14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318080" y="4346640"/>
              <a:ext cx="453960" cy="453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080200" y="5108400"/>
              <a:ext cx="225720" cy="225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03440" y="2133720"/>
              <a:ext cx="1749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08400" y="2133720"/>
              <a:ext cx="1749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603440" y="3886200"/>
              <a:ext cx="1749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08400" y="3886200"/>
              <a:ext cx="1749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48120" y="3584520"/>
              <a:ext cx="0" cy="1749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00600" y="3584520"/>
              <a:ext cx="0" cy="1749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3080" y="3584520"/>
              <a:ext cx="0" cy="1749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05920" y="3584520"/>
              <a:ext cx="0" cy="1749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70320" y="4803840"/>
              <a:ext cx="301680" cy="30168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137520" y="1233360"/>
            <a:ext cx="2275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ímkiválasz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794040" y="6110280"/>
            <a:ext cx="210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tkiolvas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E5B-895B-4EFD-92F1-007BD18B8C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ahoma"/>
              </a:rPr>
              <a:t>Hardver:nyomtatók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garéta kerekes nyomtató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rnyomtató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átrix Nyomtató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ő nyomtató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ntasugaras nyomtató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ézer nyomtató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ahoma"/>
              </a:rPr>
              <a:t>„</a:t>
            </a:r>
            <a:r>
              <a:rPr b="0" lang="hu-HU" sz="4400" spc="-1" strike="noStrike">
                <a:solidFill>
                  <a:srgbClr val="ffff00"/>
                </a:solidFill>
                <a:latin typeface="Tahoma"/>
              </a:rPr>
              <a:t>maszkolt” ROM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(működés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3048120" y="1601640"/>
            <a:ext cx="0" cy="4113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800600" y="1601640"/>
            <a:ext cx="0" cy="4113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53080" y="1601640"/>
            <a:ext cx="0" cy="4113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146240" y="2133720"/>
            <a:ext cx="7769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603440" y="2136600"/>
            <a:ext cx="30168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289240" y="2822400"/>
            <a:ext cx="225360" cy="22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1679400" y="2212920"/>
            <a:ext cx="454320" cy="45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2134800" y="2211480"/>
            <a:ext cx="149400" cy="606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79400" y="2670120"/>
            <a:ext cx="606600" cy="149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060280" y="2593800"/>
            <a:ext cx="453960" cy="454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7840" y="3051000"/>
            <a:ext cx="301680" cy="3016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22400" y="3355920"/>
            <a:ext cx="225720" cy="22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1145880" y="3886200"/>
            <a:ext cx="7769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355920" y="2136600"/>
            <a:ext cx="30168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041720" y="2822400"/>
            <a:ext cx="225360" cy="22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3431880" y="2212920"/>
            <a:ext cx="453960" cy="45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3887280" y="2211480"/>
            <a:ext cx="149400" cy="606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432240" y="2670120"/>
            <a:ext cx="606240" cy="149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812760" y="2593800"/>
            <a:ext cx="453960" cy="454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75240" y="3355920"/>
            <a:ext cx="225360" cy="22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108400" y="2136600"/>
            <a:ext cx="30168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794200" y="2822400"/>
            <a:ext cx="225720" cy="22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5184360" y="2212920"/>
            <a:ext cx="453960" cy="45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5640480" y="2211480"/>
            <a:ext cx="149040" cy="606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184720" y="2670120"/>
            <a:ext cx="606600" cy="149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5565600" y="2593800"/>
            <a:ext cx="454320" cy="454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022800" y="3051000"/>
            <a:ext cx="301680" cy="3016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327720" y="3355920"/>
            <a:ext cx="225360" cy="22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03440" y="3889440"/>
            <a:ext cx="30168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289240" y="4575240"/>
            <a:ext cx="225360" cy="22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679400" y="3965400"/>
            <a:ext cx="454320" cy="454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2134800" y="3963600"/>
            <a:ext cx="149400" cy="606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79400" y="4422600"/>
            <a:ext cx="606600" cy="149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2060280" y="4346640"/>
            <a:ext cx="453960" cy="45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822400" y="5108400"/>
            <a:ext cx="225720" cy="22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355920" y="3889440"/>
            <a:ext cx="30168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041720" y="4575240"/>
            <a:ext cx="225360" cy="22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431880" y="3965400"/>
            <a:ext cx="453960" cy="454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3887280" y="3963600"/>
            <a:ext cx="149400" cy="606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2240" y="4422600"/>
            <a:ext cx="606240" cy="149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812760" y="4346640"/>
            <a:ext cx="453960" cy="45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575240" y="5108400"/>
            <a:ext cx="225360" cy="22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108400" y="3889440"/>
            <a:ext cx="30168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794200" y="4575240"/>
            <a:ext cx="225720" cy="22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184360" y="3965400"/>
            <a:ext cx="453960" cy="454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5640480" y="3963600"/>
            <a:ext cx="149040" cy="606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84720" y="4422600"/>
            <a:ext cx="606600" cy="149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5565600" y="4346640"/>
            <a:ext cx="454320" cy="45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17840" y="4803840"/>
            <a:ext cx="301680" cy="3016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327720" y="5108400"/>
            <a:ext cx="225360" cy="22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305920" y="1601640"/>
            <a:ext cx="0" cy="4113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861240" y="2136600"/>
            <a:ext cx="30168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547040" y="2822400"/>
            <a:ext cx="225360" cy="22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6937200" y="2212920"/>
            <a:ext cx="454320" cy="45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7392600" y="2211480"/>
            <a:ext cx="149400" cy="606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937200" y="2670120"/>
            <a:ext cx="606600" cy="149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7318080" y="2593800"/>
            <a:ext cx="453960" cy="454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080200" y="3355920"/>
            <a:ext cx="225720" cy="22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861240" y="3889440"/>
            <a:ext cx="30168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547040" y="4575240"/>
            <a:ext cx="225360" cy="22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6937200" y="3965400"/>
            <a:ext cx="454320" cy="454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7392600" y="3963600"/>
            <a:ext cx="149400" cy="606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937200" y="4422600"/>
            <a:ext cx="606600" cy="149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7318080" y="4346640"/>
            <a:ext cx="453960" cy="45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080200" y="5108400"/>
            <a:ext cx="225720" cy="22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603440" y="2133720"/>
            <a:ext cx="17492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108400" y="2133720"/>
            <a:ext cx="174960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603440" y="3886200"/>
            <a:ext cx="17492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108400" y="3886200"/>
            <a:ext cx="174960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84520"/>
            <a:ext cx="0" cy="1749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800600" y="3584520"/>
            <a:ext cx="0" cy="1749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553080" y="3584520"/>
            <a:ext cx="0" cy="1749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305920" y="3584520"/>
            <a:ext cx="0" cy="1749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11040" y="1987560"/>
            <a:ext cx="673200" cy="291960"/>
          </a:xfrm>
          <a:prstGeom prst="rightArrow">
            <a:avLst>
              <a:gd name="adj1" fmla="val 50000"/>
              <a:gd name="adj2" fmla="val 115343"/>
            </a:avLst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863800" y="5873760"/>
            <a:ext cx="292320" cy="673200"/>
          </a:xfrm>
          <a:prstGeom prst="downArrow">
            <a:avLst>
              <a:gd name="adj1" fmla="val 50000"/>
              <a:gd name="adj2" fmla="val 115201"/>
            </a:avLst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445080" y="5873760"/>
            <a:ext cx="292320" cy="673200"/>
          </a:xfrm>
          <a:prstGeom prst="downArrow">
            <a:avLst>
              <a:gd name="adj1" fmla="val 50000"/>
              <a:gd name="adj2" fmla="val 115201"/>
            </a:avLst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270320" y="4803840"/>
            <a:ext cx="301680" cy="3016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37520" y="1081080"/>
            <a:ext cx="2275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ímkiválasz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90880" y="2360520"/>
            <a:ext cx="10292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olvas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794040" y="6110280"/>
            <a:ext cx="210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tkiolvas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rot="2760000">
            <a:off x="4904280" y="3227760"/>
            <a:ext cx="1218960" cy="160560"/>
          </a:xfrm>
          <a:prstGeom prst="rightArrow">
            <a:avLst>
              <a:gd name="adj1" fmla="val 50000"/>
              <a:gd name="adj2" fmla="val 154299"/>
            </a:avLst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2760000">
            <a:off x="1398960" y="3196440"/>
            <a:ext cx="1219320" cy="160200"/>
          </a:xfrm>
          <a:prstGeom prst="rightArrow">
            <a:avLst>
              <a:gd name="adj1" fmla="val 50000"/>
              <a:gd name="adj2" fmla="val 154691"/>
            </a:avLst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3358080" y="2814120"/>
            <a:ext cx="962280" cy="988560"/>
            <a:chOff x="3358080" y="2814120"/>
            <a:chExt cx="962280" cy="988560"/>
          </a:xfrm>
        </p:grpSpPr>
        <p:sp>
          <p:nvSpPr>
            <p:cNvPr id="529" name=""/>
            <p:cNvSpPr/>
            <p:nvPr/>
          </p:nvSpPr>
          <p:spPr>
            <a:xfrm rot="2760000">
              <a:off x="3229560" y="3227760"/>
              <a:ext cx="1218960" cy="160560"/>
            </a:xfrm>
            <a:prstGeom prst="rightArrow">
              <a:avLst>
                <a:gd name="adj1" fmla="val 50000"/>
                <a:gd name="adj2" fmla="val 154299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14600" y="3228840"/>
              <a:ext cx="606600" cy="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3716280" y="2925360"/>
              <a:ext cx="0" cy="606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680120" y="4610880"/>
            <a:ext cx="962640" cy="988560"/>
            <a:chOff x="1680120" y="4610880"/>
            <a:chExt cx="962640" cy="988560"/>
          </a:xfrm>
        </p:grpSpPr>
        <p:sp>
          <p:nvSpPr>
            <p:cNvPr id="533" name=""/>
            <p:cNvSpPr/>
            <p:nvPr/>
          </p:nvSpPr>
          <p:spPr>
            <a:xfrm rot="13560000">
              <a:off x="1551600" y="5024520"/>
              <a:ext cx="1219320" cy="160560"/>
            </a:xfrm>
            <a:prstGeom prst="rightArrow">
              <a:avLst>
                <a:gd name="adj1" fmla="val 50000"/>
                <a:gd name="adj2" fmla="val 154344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1983960" y="5181480"/>
              <a:ext cx="606600" cy="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86000" y="4879800"/>
              <a:ext cx="0" cy="606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863400" y="2814480"/>
            <a:ext cx="961920" cy="988200"/>
            <a:chOff x="6863400" y="2814480"/>
            <a:chExt cx="961920" cy="988200"/>
          </a:xfrm>
        </p:grpSpPr>
        <p:sp>
          <p:nvSpPr>
            <p:cNvPr id="537" name=""/>
            <p:cNvSpPr/>
            <p:nvPr/>
          </p:nvSpPr>
          <p:spPr>
            <a:xfrm rot="2760000">
              <a:off x="6734880" y="3228120"/>
              <a:ext cx="1218960" cy="160200"/>
            </a:xfrm>
            <a:prstGeom prst="rightArrow">
              <a:avLst>
                <a:gd name="adj1" fmla="val 50000"/>
                <a:gd name="adj2" fmla="val 154645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19920" y="3228840"/>
              <a:ext cx="606240" cy="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221600" y="2925360"/>
              <a:ext cx="0" cy="606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42BE-708A-4188-B81F-3207929C8D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2133720" y="1523880"/>
            <a:ext cx="5867280" cy="3124440"/>
            <a:chOff x="2133720" y="1523880"/>
            <a:chExt cx="5867280" cy="3124440"/>
          </a:xfrm>
        </p:grpSpPr>
        <p:sp>
          <p:nvSpPr>
            <p:cNvPr id="542" name=""/>
            <p:cNvSpPr/>
            <p:nvPr/>
          </p:nvSpPr>
          <p:spPr>
            <a:xfrm>
              <a:off x="3569760" y="1523880"/>
              <a:ext cx="0" cy="3124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93480" y="1523880"/>
              <a:ext cx="0" cy="3124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216840" y="1523880"/>
              <a:ext cx="0" cy="3124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33720" y="1927800"/>
              <a:ext cx="5867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478960" y="1929960"/>
              <a:ext cx="227520" cy="228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996640" y="2450880"/>
              <a:ext cx="169920" cy="171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2535840" y="1987920"/>
              <a:ext cx="343080" cy="344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flipV="1">
              <a:off x="2880000" y="1986480"/>
              <a:ext cx="112680" cy="460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36200" y="2335320"/>
              <a:ext cx="457920" cy="113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2824200" y="2277360"/>
              <a:ext cx="342720" cy="344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69440" y="2624760"/>
              <a:ext cx="227520" cy="22896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399480" y="2856240"/>
              <a:ext cx="170280" cy="171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2133720" y="3259080"/>
              <a:ext cx="5867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02320" y="1929960"/>
              <a:ext cx="227520" cy="228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20360" y="2450880"/>
              <a:ext cx="169920" cy="171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3859920" y="1987920"/>
              <a:ext cx="342720" cy="344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4203360" y="1986480"/>
              <a:ext cx="112680" cy="460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59920" y="2335320"/>
              <a:ext cx="457560" cy="113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4147560" y="2277360"/>
              <a:ext cx="342720" cy="344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3200" y="2856240"/>
              <a:ext cx="169920" cy="171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25680" y="1929960"/>
              <a:ext cx="227520" cy="228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643720" y="2450880"/>
              <a:ext cx="170280" cy="171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5183280" y="1987920"/>
              <a:ext cx="342720" cy="344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 flipV="1">
              <a:off x="5527800" y="1986480"/>
              <a:ext cx="112320" cy="460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83280" y="2335320"/>
              <a:ext cx="457920" cy="113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5470560" y="2277360"/>
              <a:ext cx="343080" cy="344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816520" y="2624760"/>
              <a:ext cx="227520" cy="22896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046560" y="2856240"/>
              <a:ext cx="169920" cy="171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478960" y="3261600"/>
              <a:ext cx="227520" cy="228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96640" y="3782520"/>
              <a:ext cx="169920" cy="171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2535840" y="3319200"/>
              <a:ext cx="343080" cy="344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flipV="1">
              <a:off x="2880000" y="3317760"/>
              <a:ext cx="112680" cy="460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536200" y="3666600"/>
              <a:ext cx="457920" cy="113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2824200" y="3608640"/>
              <a:ext cx="342720" cy="344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99480" y="4187520"/>
              <a:ext cx="170280" cy="171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02320" y="3261600"/>
              <a:ext cx="227520" cy="228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20360" y="3782520"/>
              <a:ext cx="169920" cy="171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3859920" y="3319200"/>
              <a:ext cx="342720" cy="344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 flipV="1">
              <a:off x="4203360" y="3317760"/>
              <a:ext cx="112680" cy="460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859920" y="3666600"/>
              <a:ext cx="457560" cy="113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4147560" y="3608640"/>
              <a:ext cx="342720" cy="344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723200" y="4187520"/>
              <a:ext cx="169920" cy="171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25680" y="3261600"/>
              <a:ext cx="227520" cy="228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643720" y="3782520"/>
              <a:ext cx="170280" cy="171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5183280" y="3319200"/>
              <a:ext cx="342720" cy="344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5527800" y="3317760"/>
              <a:ext cx="112320" cy="460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83280" y="3666600"/>
              <a:ext cx="457920" cy="113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5470560" y="3608640"/>
              <a:ext cx="343080" cy="344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69440" y="3956040"/>
              <a:ext cx="227520" cy="22896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046560" y="4187520"/>
              <a:ext cx="169920" cy="171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40560" y="1523880"/>
              <a:ext cx="0" cy="3124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49760" y="1929960"/>
              <a:ext cx="227520" cy="228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67440" y="2450880"/>
              <a:ext cx="169920" cy="171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6506640" y="1987920"/>
              <a:ext cx="343080" cy="344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6850800" y="1986480"/>
              <a:ext cx="112680" cy="460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07000" y="2335320"/>
              <a:ext cx="457920" cy="113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6795000" y="2277360"/>
              <a:ext cx="342720" cy="344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70280" y="2856240"/>
              <a:ext cx="170280" cy="171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49760" y="3261600"/>
              <a:ext cx="227520" cy="228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67440" y="3782520"/>
              <a:ext cx="169920" cy="171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6506640" y="3319200"/>
              <a:ext cx="343080" cy="344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6850800" y="3317760"/>
              <a:ext cx="112680" cy="460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507000" y="3666600"/>
              <a:ext cx="457920" cy="113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6795000" y="3608640"/>
              <a:ext cx="342720" cy="344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70280" y="4187520"/>
              <a:ext cx="170280" cy="171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478960" y="1927800"/>
              <a:ext cx="1320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125680" y="1927800"/>
              <a:ext cx="1321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78960" y="3259080"/>
              <a:ext cx="1320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125680" y="3259080"/>
              <a:ext cx="1321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569760" y="3029760"/>
              <a:ext cx="0" cy="132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93480" y="3029760"/>
              <a:ext cx="0" cy="132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216840" y="3029760"/>
              <a:ext cx="0" cy="132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40560" y="3029760"/>
              <a:ext cx="0" cy="132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92800" y="3956040"/>
              <a:ext cx="227520" cy="22896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6253920" y="5638680"/>
            <a:ext cx="893880" cy="94716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1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1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732280" y="5648400"/>
            <a:ext cx="3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353760" y="4572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b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709520" y="4562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b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021000" y="4572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b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316280" y="4572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b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219320" y="2286000"/>
            <a:ext cx="609480" cy="609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1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133720" y="19051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133720" y="28195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1828440" y="2362320"/>
            <a:ext cx="304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1828440" y="2819520"/>
            <a:ext cx="304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523880" y="2895480"/>
            <a:ext cx="0" cy="1219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96360" y="41148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s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ROM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048120" y="1449360"/>
            <a:ext cx="0" cy="4113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800600" y="1449360"/>
            <a:ext cx="0" cy="4113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553080" y="1449360"/>
            <a:ext cx="0" cy="4113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46240" y="1981080"/>
            <a:ext cx="7769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603440" y="1984320"/>
            <a:ext cx="30168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289240" y="2670120"/>
            <a:ext cx="225360" cy="22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1679400" y="2060640"/>
            <a:ext cx="454320" cy="45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 flipV="1">
            <a:off x="2134800" y="2058480"/>
            <a:ext cx="149400" cy="606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679400" y="2517840"/>
            <a:ext cx="606600" cy="149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2060280" y="2441520"/>
            <a:ext cx="453960" cy="45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517840" y="2898720"/>
            <a:ext cx="301680" cy="3016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822400" y="3203640"/>
            <a:ext cx="225720" cy="22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1145880" y="3733920"/>
            <a:ext cx="7769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55920" y="1984320"/>
            <a:ext cx="30168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041720" y="2670120"/>
            <a:ext cx="225360" cy="22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3431880" y="2060640"/>
            <a:ext cx="453960" cy="45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3887280" y="2058480"/>
            <a:ext cx="149400" cy="606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32240" y="2517840"/>
            <a:ext cx="606240" cy="149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3812760" y="2441520"/>
            <a:ext cx="453960" cy="45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575240" y="3203640"/>
            <a:ext cx="225360" cy="22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8400" y="1984320"/>
            <a:ext cx="30168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794200" y="2670120"/>
            <a:ext cx="225720" cy="22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84360" y="2060640"/>
            <a:ext cx="453960" cy="45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5640480" y="2058480"/>
            <a:ext cx="149040" cy="606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184720" y="2517840"/>
            <a:ext cx="606600" cy="149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5565600" y="2441520"/>
            <a:ext cx="454320" cy="45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022800" y="2898720"/>
            <a:ext cx="301680" cy="3016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327720" y="3203640"/>
            <a:ext cx="225360" cy="22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603440" y="3736800"/>
            <a:ext cx="30168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289240" y="4422600"/>
            <a:ext cx="225360" cy="22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679400" y="3813120"/>
            <a:ext cx="454320" cy="45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2134800" y="3811680"/>
            <a:ext cx="149400" cy="606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679400" y="4270320"/>
            <a:ext cx="606600" cy="149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2060280" y="4194000"/>
            <a:ext cx="453960" cy="454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822400" y="4956120"/>
            <a:ext cx="225720" cy="22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355920" y="3736800"/>
            <a:ext cx="30168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041720" y="4422600"/>
            <a:ext cx="225360" cy="22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3431880" y="3813120"/>
            <a:ext cx="453960" cy="45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3887280" y="3811680"/>
            <a:ext cx="149400" cy="606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432240" y="4270320"/>
            <a:ext cx="606240" cy="149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812760" y="4194000"/>
            <a:ext cx="453960" cy="454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575240" y="4956120"/>
            <a:ext cx="225360" cy="22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108400" y="3736800"/>
            <a:ext cx="30168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794200" y="4422600"/>
            <a:ext cx="225720" cy="22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5184360" y="3813120"/>
            <a:ext cx="453960" cy="45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 flipV="1">
            <a:off x="5640480" y="3811680"/>
            <a:ext cx="149040" cy="606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184720" y="4270320"/>
            <a:ext cx="606600" cy="149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5565600" y="4194000"/>
            <a:ext cx="454320" cy="454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517840" y="4651200"/>
            <a:ext cx="301680" cy="3016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327720" y="4956120"/>
            <a:ext cx="225360" cy="22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8305920" y="1449360"/>
            <a:ext cx="0" cy="4113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861240" y="1984320"/>
            <a:ext cx="30168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547040" y="2670120"/>
            <a:ext cx="225360" cy="22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937200" y="2060640"/>
            <a:ext cx="454320" cy="45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7392600" y="2058480"/>
            <a:ext cx="149400" cy="606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937200" y="2517840"/>
            <a:ext cx="606600" cy="149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7318080" y="2441520"/>
            <a:ext cx="453960" cy="45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080200" y="3203640"/>
            <a:ext cx="225720" cy="22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861240" y="3736800"/>
            <a:ext cx="30168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547040" y="4422600"/>
            <a:ext cx="225360" cy="22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6937200" y="3813120"/>
            <a:ext cx="454320" cy="45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H="1" flipV="1">
            <a:off x="7392600" y="3811680"/>
            <a:ext cx="149400" cy="606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937200" y="4270320"/>
            <a:ext cx="606600" cy="149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7318080" y="4194000"/>
            <a:ext cx="453960" cy="454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8080200" y="4956120"/>
            <a:ext cx="225720" cy="22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603440" y="1981080"/>
            <a:ext cx="17492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108400" y="1981080"/>
            <a:ext cx="174960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603440" y="3733920"/>
            <a:ext cx="17492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108400" y="3733920"/>
            <a:ext cx="174960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48120" y="3432240"/>
            <a:ext cx="0" cy="17492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800600" y="3432240"/>
            <a:ext cx="0" cy="17492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553080" y="3432240"/>
            <a:ext cx="0" cy="17492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8305920" y="3432240"/>
            <a:ext cx="0" cy="17492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1040" y="3587760"/>
            <a:ext cx="673200" cy="291960"/>
          </a:xfrm>
          <a:prstGeom prst="rightArrow">
            <a:avLst>
              <a:gd name="adj1" fmla="val 50000"/>
              <a:gd name="adj2" fmla="val 115343"/>
            </a:avLst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692600" y="5759280"/>
            <a:ext cx="292320" cy="673200"/>
          </a:xfrm>
          <a:prstGeom prst="downArrow">
            <a:avLst>
              <a:gd name="adj1" fmla="val 50000"/>
              <a:gd name="adj2" fmla="val 115201"/>
            </a:avLst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445080" y="5759280"/>
            <a:ext cx="292320" cy="673200"/>
          </a:xfrm>
          <a:prstGeom prst="downArrow">
            <a:avLst>
              <a:gd name="adj1" fmla="val 50000"/>
              <a:gd name="adj2" fmla="val 115201"/>
            </a:avLst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270320" y="4651200"/>
            <a:ext cx="301680" cy="3016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270320" y="2898720"/>
            <a:ext cx="301680" cy="3016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775640" y="2898720"/>
            <a:ext cx="301680" cy="3016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22800" y="4651200"/>
            <a:ext cx="301680" cy="3016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775640" y="4651200"/>
            <a:ext cx="301680" cy="3016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34360" y="3884760"/>
            <a:ext cx="6314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ir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2480" y="4876920"/>
            <a:ext cx="22258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iró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&gt;&gt;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 I</a:t>
            </a:r>
            <a:r>
              <a:rPr b="0" lang="hu-HU" sz="3600" spc="-1" strike="noStrike" baseline="-25000">
                <a:solidFill>
                  <a:srgbClr val="ffffff"/>
                </a:solidFill>
                <a:latin typeface="Times New Roman"/>
              </a:rPr>
              <a:t>olvas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194920" y="5805360"/>
            <a:ext cx="166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égeté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735360" y="4954320"/>
            <a:ext cx="606600" cy="911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3735360" y="4954320"/>
            <a:ext cx="2282760" cy="911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1E4-4AFA-4C23-BED3-7485DD0052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gy furcsa (visszacsatolt) kapcsolá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1069920" y="2443320"/>
            <a:ext cx="3959280" cy="2743200"/>
            <a:chOff x="1069920" y="2443320"/>
            <a:chExt cx="3959280" cy="2743200"/>
          </a:xfrm>
        </p:grpSpPr>
        <p:grpSp>
          <p:nvGrpSpPr>
            <p:cNvPr id="718" name=""/>
            <p:cNvGrpSpPr/>
            <p:nvPr/>
          </p:nvGrpSpPr>
          <p:grpSpPr>
            <a:xfrm>
              <a:off x="1147680" y="2443320"/>
              <a:ext cx="2133360" cy="990360"/>
              <a:chOff x="1147680" y="2443320"/>
              <a:chExt cx="2133360" cy="990360"/>
            </a:xfrm>
          </p:grpSpPr>
          <p:sp>
            <p:nvSpPr>
              <p:cNvPr id="719" name=""/>
              <p:cNvSpPr/>
              <p:nvPr/>
            </p:nvSpPr>
            <p:spPr>
              <a:xfrm>
                <a:off x="1999080" y="2443320"/>
                <a:ext cx="427680" cy="98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0" y="0"/>
                    </a:moveTo>
                    <a:arcTo wR="10800" hR="10800" stAng="-5425464" swAng="54254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0" y="0"/>
                    </a:moveTo>
                    <a:arcTo wR="10800" hR="10800" stAng="-5425464" swAng="5425464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10800000">
                <a:off x="2002680" y="2443320"/>
                <a:ext cx="424440" cy="99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31"/>
                    </a:moveTo>
                    <a:arcTo wR="10800" hR="10800" stAng="-10777963" swAng="53523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31"/>
                    </a:moveTo>
                    <a:arcTo wR="10800" hR="10800" stAng="-10777963" swAng="535230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147680" y="2443320"/>
                <a:ext cx="2133360" cy="98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4" y="0"/>
                    </a:moveTo>
                    <a:arcTo wR="10800" hR="10800" stAng="-5405116" swAng="5405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4" y="0"/>
                    </a:moveTo>
                    <a:arcTo wR="10800" hR="10800" stAng="-5405116" swAng="5405116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10800000">
                <a:off x="1148040" y="2443320"/>
                <a:ext cx="2133000" cy="99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31"/>
                    </a:moveTo>
                    <a:arcTo wR="10800" hR="10800" stAng="-10777963" swAng="53728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31"/>
                    </a:moveTo>
                    <a:arcTo wR="10800" hR="10800" stAng="-10777963" swAng="5372847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3290760" y="2832120"/>
              <a:ext cx="203400" cy="203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1147680" y="4195800"/>
              <a:ext cx="2133360" cy="990720"/>
              <a:chOff x="1147680" y="4195800"/>
              <a:chExt cx="2133360" cy="990720"/>
            </a:xfrm>
          </p:grpSpPr>
          <p:sp>
            <p:nvSpPr>
              <p:cNvPr id="725" name=""/>
              <p:cNvSpPr/>
              <p:nvPr/>
            </p:nvSpPr>
            <p:spPr>
              <a:xfrm>
                <a:off x="1999080" y="4195800"/>
                <a:ext cx="427680" cy="99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0" y="0"/>
                    </a:moveTo>
                    <a:arcTo wR="10800" hR="10800" stAng="-5425464" swAng="54254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0" y="0"/>
                    </a:moveTo>
                    <a:arcTo wR="10800" hR="10800" stAng="-5425464" swAng="5425464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10800000">
                <a:off x="2002680" y="4196160"/>
                <a:ext cx="424440" cy="99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31"/>
                    </a:moveTo>
                    <a:arcTo wR="10800" hR="10800" stAng="-10777963" swAng="53523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31"/>
                    </a:moveTo>
                    <a:arcTo wR="10800" hR="10800" stAng="-10777963" swAng="535230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147680" y="4195800"/>
                <a:ext cx="2133360" cy="99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4" y="0"/>
                    </a:moveTo>
                    <a:arcTo wR="10800" hR="10800" stAng="-5405116" swAng="5405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4" y="0"/>
                    </a:moveTo>
                    <a:arcTo wR="10800" hR="10800" stAng="-5405116" swAng="5405116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0800000">
                <a:off x="1148040" y="4196160"/>
                <a:ext cx="2133000" cy="99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31"/>
                    </a:moveTo>
                    <a:arcTo wR="10800" hR="10800" stAng="-10777963" swAng="53728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31"/>
                    </a:moveTo>
                    <a:arcTo wR="10800" hR="10800" stAng="-10777963" swAng="5372847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3290760" y="4584600"/>
              <a:ext cx="203400" cy="2034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8200" y="2895480"/>
              <a:ext cx="152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508200" y="4724280"/>
              <a:ext cx="152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69920" y="2666880"/>
              <a:ext cx="1292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69920" y="4876920"/>
              <a:ext cx="1292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55720" y="4419720"/>
              <a:ext cx="606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755720" y="3200400"/>
              <a:ext cx="606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62520" y="2898720"/>
              <a:ext cx="0" cy="453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962520" y="4270320"/>
              <a:ext cx="0" cy="453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752480" y="3203640"/>
              <a:ext cx="0" cy="453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752480" y="3965400"/>
              <a:ext cx="0" cy="454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755720" y="3660840"/>
              <a:ext cx="2206800" cy="606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1754280" y="3354480"/>
              <a:ext cx="2206440" cy="606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5776200" y="4221000"/>
            <a:ext cx="299052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NOR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641920" y="4952880"/>
            <a:ext cx="327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050480" y="20718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50480" y="435780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708080" y="23004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708080" y="412920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5BF4-F82A-4D8C-90DC-1FFF9068DB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RSFF érték beírá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538560" y="1803240"/>
            <a:ext cx="1704600" cy="793800"/>
            <a:chOff x="538560" y="1803240"/>
            <a:chExt cx="1704600" cy="793800"/>
          </a:xfrm>
        </p:grpSpPr>
        <p:sp>
          <p:nvSpPr>
            <p:cNvPr id="750" name=""/>
            <p:cNvSpPr/>
            <p:nvPr/>
          </p:nvSpPr>
          <p:spPr>
            <a:xfrm>
              <a:off x="1217520" y="1803240"/>
              <a:ext cx="34272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00" y="0"/>
                  </a:moveTo>
                  <a:arcTo wR="10800" hR="10800" stAng="-5431830" swAng="54318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00" y="0"/>
                  </a:moveTo>
                  <a:arcTo wR="10800" hR="10800" stAng="-5431830" swAng="543183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10800000">
              <a:off x="1221120" y="1803600"/>
              <a:ext cx="339480" cy="7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389" swAng="534026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389" swAng="534026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38560" y="1803240"/>
              <a:ext cx="170424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0" y="0"/>
                  </a:moveTo>
                  <a:arcTo wR="10800" hR="10800" stAng="-5406401" swAng="54064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0" y="0"/>
                  </a:moveTo>
                  <a:arcTo wR="10800" hR="10800" stAng="-5406401" swAng="540640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10800000">
              <a:off x="538560" y="1803600"/>
              <a:ext cx="1704600" cy="7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389" swAng="536598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389" swAng="5365987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2254320" y="2116080"/>
            <a:ext cx="156960" cy="157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38560" y="3203280"/>
            <a:ext cx="1704600" cy="793800"/>
            <a:chOff x="538560" y="3203280"/>
            <a:chExt cx="1704600" cy="793800"/>
          </a:xfrm>
        </p:grpSpPr>
        <p:sp>
          <p:nvSpPr>
            <p:cNvPr id="756" name=""/>
            <p:cNvSpPr/>
            <p:nvPr/>
          </p:nvSpPr>
          <p:spPr>
            <a:xfrm>
              <a:off x="1217520" y="3203640"/>
              <a:ext cx="34272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00" y="0"/>
                  </a:moveTo>
                  <a:arcTo wR="10800" hR="10800" stAng="-5431830" swAng="5417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00" y="0"/>
                  </a:moveTo>
                  <a:arcTo wR="10800" hR="10800" stAng="-5431830" swAng="541795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0800000">
              <a:off x="1221120" y="3203280"/>
              <a:ext cx="33948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498" swAng="5340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498" swAng="534037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38560" y="3203640"/>
              <a:ext cx="170424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0" y="0"/>
                  </a:moveTo>
                  <a:arcTo wR="10800" hR="10800" stAng="-5406401" swAng="5392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0" y="0"/>
                  </a:moveTo>
                  <a:arcTo wR="10800" hR="10800" stAng="-5406401" swAng="5392625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0800000">
              <a:off x="538560" y="3203280"/>
              <a:ext cx="170460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498" swAng="53660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498" swAng="5366097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2254320" y="3517920"/>
            <a:ext cx="156960" cy="157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425680" y="2163600"/>
            <a:ext cx="1216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425680" y="3627360"/>
            <a:ext cx="1216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993600" y="1981080"/>
            <a:ext cx="514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993600" y="3736800"/>
            <a:ext cx="514440" cy="11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23840" y="3382920"/>
            <a:ext cx="4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023840" y="2408400"/>
            <a:ext cx="4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789280" y="2165400"/>
            <a:ext cx="0" cy="363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89280" y="3262320"/>
            <a:ext cx="0" cy="363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020600" y="2411280"/>
            <a:ext cx="0" cy="362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020600" y="3021120"/>
            <a:ext cx="0" cy="36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023840" y="2774880"/>
            <a:ext cx="1765440" cy="484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1022400" y="2530080"/>
            <a:ext cx="1765080" cy="484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4956120" y="1803240"/>
            <a:ext cx="1708200" cy="793800"/>
            <a:chOff x="4956120" y="1803240"/>
            <a:chExt cx="1708200" cy="793800"/>
          </a:xfrm>
        </p:grpSpPr>
        <p:sp>
          <p:nvSpPr>
            <p:cNvPr id="774" name=""/>
            <p:cNvSpPr/>
            <p:nvPr/>
          </p:nvSpPr>
          <p:spPr>
            <a:xfrm>
              <a:off x="5634360" y="1803240"/>
              <a:ext cx="33912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128" swAng="5432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128" swAng="5432128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0800000">
              <a:off x="5640840" y="1803600"/>
              <a:ext cx="338760" cy="7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389" swAng="534026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389" swAng="534026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956120" y="1803240"/>
              <a:ext cx="170784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0" y="0"/>
                  </a:moveTo>
                  <a:arcTo wR="10800" hR="10800" stAng="-5406389" swAng="540638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0" y="0"/>
                  </a:moveTo>
                  <a:arcTo wR="10800" hR="10800" stAng="-5406389" swAng="540638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0800000">
              <a:off x="4956840" y="1803600"/>
              <a:ext cx="1707480" cy="7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389" swAng="536599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389" swAng="536599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6673680" y="2116080"/>
            <a:ext cx="157320" cy="157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4956120" y="3203280"/>
            <a:ext cx="1708200" cy="793800"/>
            <a:chOff x="4956120" y="3203280"/>
            <a:chExt cx="1708200" cy="793800"/>
          </a:xfrm>
        </p:grpSpPr>
        <p:sp>
          <p:nvSpPr>
            <p:cNvPr id="780" name=""/>
            <p:cNvSpPr/>
            <p:nvPr/>
          </p:nvSpPr>
          <p:spPr>
            <a:xfrm>
              <a:off x="5635800" y="3203640"/>
              <a:ext cx="33912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128" swAng="54182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128" swAng="5418247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10800000">
              <a:off x="5640840" y="3203280"/>
              <a:ext cx="33876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498" swAng="5340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498" swAng="534037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56120" y="3203640"/>
              <a:ext cx="170784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0" y="0"/>
                  </a:moveTo>
                  <a:arcTo wR="10800" hR="10800" stAng="-5406389" swAng="53926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0" y="0"/>
                  </a:moveTo>
                  <a:arcTo wR="10800" hR="10800" stAng="-5406389" swAng="539261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0800000">
              <a:off x="4956840" y="3203280"/>
              <a:ext cx="170748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498" swAng="5366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498" swAng="536610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6673680" y="3517920"/>
            <a:ext cx="157320" cy="157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845400" y="2163600"/>
            <a:ext cx="1216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5400" y="3627360"/>
            <a:ext cx="1216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413320" y="1981080"/>
            <a:ext cx="514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413320" y="3736800"/>
            <a:ext cx="514440" cy="11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43560" y="3382920"/>
            <a:ext cx="48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43560" y="2408400"/>
            <a:ext cx="48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207200" y="2165400"/>
            <a:ext cx="0" cy="363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207200" y="3262320"/>
            <a:ext cx="0" cy="363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40320" y="2411280"/>
            <a:ext cx="0" cy="362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440320" y="3021120"/>
            <a:ext cx="0" cy="36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443560" y="2774880"/>
            <a:ext cx="1763640" cy="484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442120" y="2530080"/>
            <a:ext cx="1763640" cy="484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4956120" y="4468680"/>
            <a:ext cx="1708200" cy="793800"/>
            <a:chOff x="4956120" y="4468680"/>
            <a:chExt cx="1708200" cy="793800"/>
          </a:xfrm>
        </p:grpSpPr>
        <p:sp>
          <p:nvSpPr>
            <p:cNvPr id="798" name=""/>
            <p:cNvSpPr/>
            <p:nvPr/>
          </p:nvSpPr>
          <p:spPr>
            <a:xfrm>
              <a:off x="5634360" y="4468680"/>
              <a:ext cx="33912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128" swAng="5432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128" swAng="5432128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10800000">
              <a:off x="5640840" y="4470840"/>
              <a:ext cx="338760" cy="7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389" swAng="534026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389" swAng="534026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956120" y="4468680"/>
              <a:ext cx="170784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0" y="0"/>
                  </a:moveTo>
                  <a:arcTo wR="10800" hR="10800" stAng="-5406389" swAng="540638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0" y="0"/>
                  </a:moveTo>
                  <a:arcTo wR="10800" hR="10800" stAng="-5406389" swAng="540638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0800000">
              <a:off x="4956840" y="4470840"/>
              <a:ext cx="1707480" cy="7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389" swAng="536599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389" swAng="536599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6673680" y="4781520"/>
            <a:ext cx="157320" cy="157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4956120" y="5871240"/>
            <a:ext cx="1708200" cy="793080"/>
            <a:chOff x="4956120" y="5871240"/>
            <a:chExt cx="1708200" cy="793080"/>
          </a:xfrm>
        </p:grpSpPr>
        <p:sp>
          <p:nvSpPr>
            <p:cNvPr id="804" name=""/>
            <p:cNvSpPr/>
            <p:nvPr/>
          </p:nvSpPr>
          <p:spPr>
            <a:xfrm>
              <a:off x="5634360" y="5872320"/>
              <a:ext cx="339120" cy="7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128" swAng="5432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128" swAng="5432128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10800000">
              <a:off x="5640840" y="5871240"/>
              <a:ext cx="3387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498" swAng="5340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498" swAng="534037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956120" y="5872320"/>
              <a:ext cx="1707840" cy="7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0" y="0"/>
                  </a:moveTo>
                  <a:arcTo wR="10800" hR="10800" stAng="-5406389" swAng="540638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0" y="0"/>
                  </a:moveTo>
                  <a:arcTo wR="10800" hR="10800" stAng="-5406389" swAng="540638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10800000">
              <a:off x="4956840" y="5871240"/>
              <a:ext cx="170748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498" swAng="5366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498" swAng="536610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6673680" y="6184800"/>
            <a:ext cx="157320" cy="157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845400" y="4830840"/>
            <a:ext cx="1216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845400" y="6294600"/>
            <a:ext cx="1216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413320" y="4646520"/>
            <a:ext cx="514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413320" y="6404040"/>
            <a:ext cx="514440" cy="11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443560" y="6049800"/>
            <a:ext cx="48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443560" y="5073480"/>
            <a:ext cx="48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207200" y="4834080"/>
            <a:ext cx="0" cy="3618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207200" y="5931000"/>
            <a:ext cx="0" cy="363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440320" y="5076720"/>
            <a:ext cx="0" cy="363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440320" y="5686560"/>
            <a:ext cx="0" cy="36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443560" y="5443560"/>
            <a:ext cx="1763640" cy="484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5442120" y="5196960"/>
            <a:ext cx="1763640" cy="484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2680" y="2673360"/>
            <a:ext cx="749160" cy="444600"/>
          </a:xfrm>
          <a:prstGeom prst="rightArrow">
            <a:avLst>
              <a:gd name="adj1" fmla="val 50000"/>
              <a:gd name="adj2" fmla="val 84290"/>
            </a:avLst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892680" y="5340240"/>
            <a:ext cx="749160" cy="444600"/>
          </a:xfrm>
          <a:prstGeom prst="leftArrow">
            <a:avLst>
              <a:gd name="adj1" fmla="val 50000"/>
              <a:gd name="adj2" fmla="val 84212"/>
            </a:avLst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711840" y="3892680"/>
            <a:ext cx="444600" cy="749160"/>
          </a:xfrm>
          <a:prstGeom prst="downArrow">
            <a:avLst>
              <a:gd name="adj1" fmla="val 50000"/>
              <a:gd name="adj2" fmla="val 84290"/>
            </a:avLst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89440" y="1690560"/>
            <a:ext cx="7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88360" y="3519360"/>
            <a:ext cx="74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956320" y="2147760"/>
            <a:ext cx="7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c=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955240" y="3062160"/>
            <a:ext cx="74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d=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708800" y="1690560"/>
            <a:ext cx="7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707720" y="3519360"/>
            <a:ext cx="74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376760" y="2147760"/>
            <a:ext cx="1372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c=x -&gt;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375680" y="3062160"/>
            <a:ext cx="1503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d=y -&gt; 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012640" y="3062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012640" y="222408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538560" y="4394160"/>
            <a:ext cx="1704600" cy="793800"/>
            <a:chOff x="538560" y="4394160"/>
            <a:chExt cx="1704600" cy="793800"/>
          </a:xfrm>
        </p:grpSpPr>
        <p:sp>
          <p:nvSpPr>
            <p:cNvPr id="835" name=""/>
            <p:cNvSpPr/>
            <p:nvPr/>
          </p:nvSpPr>
          <p:spPr>
            <a:xfrm>
              <a:off x="1217520" y="4394160"/>
              <a:ext cx="34272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00" y="0"/>
                  </a:moveTo>
                  <a:arcTo wR="10800" hR="10800" stAng="-5431830" swAng="54318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00" y="0"/>
                  </a:moveTo>
                  <a:arcTo wR="10800" hR="10800" stAng="-5431830" swAng="543183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10800000">
              <a:off x="1221120" y="4394520"/>
              <a:ext cx="339480" cy="7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389" swAng="534026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389" swAng="534026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38560" y="4394160"/>
              <a:ext cx="170424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0" y="0"/>
                  </a:moveTo>
                  <a:arcTo wR="10800" hR="10800" stAng="-5406401" swAng="54064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0" y="0"/>
                  </a:moveTo>
                  <a:arcTo wR="10800" hR="10800" stAng="-5406401" swAng="540640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10800000">
              <a:off x="538560" y="4394520"/>
              <a:ext cx="1704600" cy="7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389" swAng="536598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389" swAng="5365987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2254320" y="4707000"/>
            <a:ext cx="156960" cy="1569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38560" y="5794200"/>
            <a:ext cx="1704600" cy="793800"/>
            <a:chOff x="538560" y="5794200"/>
            <a:chExt cx="1704600" cy="793800"/>
          </a:xfrm>
        </p:grpSpPr>
        <p:sp>
          <p:nvSpPr>
            <p:cNvPr id="841" name=""/>
            <p:cNvSpPr/>
            <p:nvPr/>
          </p:nvSpPr>
          <p:spPr>
            <a:xfrm>
              <a:off x="1217520" y="5794200"/>
              <a:ext cx="34272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00" y="0"/>
                  </a:moveTo>
                  <a:arcTo wR="10800" hR="10800" stAng="-5431830" swAng="5417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00" y="0"/>
                  </a:moveTo>
                  <a:arcTo wR="10800" hR="10800" stAng="-5431830" swAng="541795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10800000">
              <a:off x="1221120" y="5794920"/>
              <a:ext cx="33948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498" swAng="5340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498" swAng="534037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38560" y="5794200"/>
              <a:ext cx="170424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0" y="0"/>
                  </a:moveTo>
                  <a:arcTo wR="10800" hR="10800" stAng="-5406401" swAng="5392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0" y="0"/>
                  </a:moveTo>
                  <a:arcTo wR="10800" hR="10800" stAng="-5406401" swAng="5392625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10800000">
              <a:off x="538560" y="5794920"/>
              <a:ext cx="170460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498" swAng="53660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498" swAng="5366097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2254320" y="6108840"/>
            <a:ext cx="156960" cy="1569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25680" y="4754520"/>
            <a:ext cx="1216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425680" y="6218280"/>
            <a:ext cx="1216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993600" y="4572000"/>
            <a:ext cx="514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993600" y="6327720"/>
            <a:ext cx="514440" cy="11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023840" y="5973840"/>
            <a:ext cx="4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023840" y="4998960"/>
            <a:ext cx="4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789280" y="4756320"/>
            <a:ext cx="0" cy="3632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789280" y="5853240"/>
            <a:ext cx="0" cy="3632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020600" y="5002200"/>
            <a:ext cx="0" cy="36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020600" y="5611680"/>
            <a:ext cx="0" cy="362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23840" y="5365800"/>
            <a:ext cx="1765440" cy="484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1022400" y="5121000"/>
            <a:ext cx="1765080" cy="484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440320" y="5078520"/>
            <a:ext cx="0" cy="36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440320" y="5688000"/>
            <a:ext cx="0" cy="36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708800" y="4357800"/>
            <a:ext cx="7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707720" y="6186600"/>
            <a:ext cx="74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013000" y="57294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012640" y="48909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52720" y="4815000"/>
            <a:ext cx="1372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=? -&gt;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450920" y="5729400"/>
            <a:ext cx="74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9440" y="4281480"/>
            <a:ext cx="7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88360" y="6110280"/>
            <a:ext cx="74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956320" y="4738680"/>
            <a:ext cx="7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955240" y="5653080"/>
            <a:ext cx="74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4FC1-0C8E-4295-9B46-5A8E2BE923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RSFF érték tárolá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538560" y="1803240"/>
            <a:ext cx="1704600" cy="793800"/>
            <a:chOff x="538560" y="1803240"/>
            <a:chExt cx="1704600" cy="793800"/>
          </a:xfrm>
        </p:grpSpPr>
        <p:sp>
          <p:nvSpPr>
            <p:cNvPr id="872" name=""/>
            <p:cNvSpPr/>
            <p:nvPr/>
          </p:nvSpPr>
          <p:spPr>
            <a:xfrm>
              <a:off x="1217520" y="1803240"/>
              <a:ext cx="34272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00" y="0"/>
                  </a:moveTo>
                  <a:arcTo wR="10800" hR="10800" stAng="-5431830" swAng="54318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00" y="0"/>
                  </a:moveTo>
                  <a:arcTo wR="10800" hR="10800" stAng="-5431830" swAng="543183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rot="10800000">
              <a:off x="1221120" y="1803600"/>
              <a:ext cx="339480" cy="7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389" swAng="534026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389" swAng="534026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38560" y="1803240"/>
              <a:ext cx="170424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0" y="0"/>
                  </a:moveTo>
                  <a:arcTo wR="10800" hR="10800" stAng="-5406401" swAng="54064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0" y="0"/>
                  </a:moveTo>
                  <a:arcTo wR="10800" hR="10800" stAng="-5406401" swAng="540640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0800000">
              <a:off x="538560" y="1803600"/>
              <a:ext cx="1704600" cy="7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389" swAng="536598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389" swAng="5365987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2254320" y="2116080"/>
            <a:ext cx="156960" cy="157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538560" y="3203280"/>
            <a:ext cx="1704600" cy="793800"/>
            <a:chOff x="538560" y="3203280"/>
            <a:chExt cx="1704600" cy="793800"/>
          </a:xfrm>
        </p:grpSpPr>
        <p:sp>
          <p:nvSpPr>
            <p:cNvPr id="878" name=""/>
            <p:cNvSpPr/>
            <p:nvPr/>
          </p:nvSpPr>
          <p:spPr>
            <a:xfrm>
              <a:off x="1217520" y="3203640"/>
              <a:ext cx="34272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00" y="0"/>
                  </a:moveTo>
                  <a:arcTo wR="10800" hR="10800" stAng="-5431830" swAng="5417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00" y="0"/>
                  </a:moveTo>
                  <a:arcTo wR="10800" hR="10800" stAng="-5431830" swAng="541795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10800000">
              <a:off x="1221120" y="3203280"/>
              <a:ext cx="33948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498" swAng="5340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498" swAng="534037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38560" y="3203640"/>
              <a:ext cx="170424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0" y="0"/>
                  </a:moveTo>
                  <a:arcTo wR="10800" hR="10800" stAng="-5406401" swAng="5392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0" y="0"/>
                  </a:moveTo>
                  <a:arcTo wR="10800" hR="10800" stAng="-5406401" swAng="5392625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rot="10800000">
              <a:off x="538560" y="3203280"/>
              <a:ext cx="170460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498" swAng="53660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498" swAng="5366097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2254320" y="3517920"/>
            <a:ext cx="156960" cy="157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425680" y="2163600"/>
            <a:ext cx="1216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425680" y="3627360"/>
            <a:ext cx="1216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993600" y="1981080"/>
            <a:ext cx="514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993600" y="3736800"/>
            <a:ext cx="514440" cy="11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023840" y="3382920"/>
            <a:ext cx="4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023840" y="2408400"/>
            <a:ext cx="4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789280" y="2165400"/>
            <a:ext cx="0" cy="363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789280" y="3262320"/>
            <a:ext cx="0" cy="363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20600" y="2411280"/>
            <a:ext cx="0" cy="362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020600" y="3021120"/>
            <a:ext cx="0" cy="36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023840" y="2774880"/>
            <a:ext cx="1765440" cy="484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1022400" y="2530080"/>
            <a:ext cx="1765080" cy="484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4956120" y="1803240"/>
            <a:ext cx="1708200" cy="793800"/>
            <a:chOff x="4956120" y="1803240"/>
            <a:chExt cx="1708200" cy="793800"/>
          </a:xfrm>
        </p:grpSpPr>
        <p:sp>
          <p:nvSpPr>
            <p:cNvPr id="896" name=""/>
            <p:cNvSpPr/>
            <p:nvPr/>
          </p:nvSpPr>
          <p:spPr>
            <a:xfrm>
              <a:off x="5634360" y="1803240"/>
              <a:ext cx="33912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128" swAng="5432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128" swAng="5432128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10800000">
              <a:off x="5640840" y="1803600"/>
              <a:ext cx="338760" cy="7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389" swAng="534026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389" swAng="534026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956120" y="1803240"/>
              <a:ext cx="170784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0" y="0"/>
                  </a:moveTo>
                  <a:arcTo wR="10800" hR="10800" stAng="-5406389" swAng="540638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0" y="0"/>
                  </a:moveTo>
                  <a:arcTo wR="10800" hR="10800" stAng="-5406389" swAng="540638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10800000">
              <a:off x="4956840" y="1803600"/>
              <a:ext cx="1707480" cy="7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389" swAng="536599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389" swAng="536599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6673680" y="2116080"/>
            <a:ext cx="157320" cy="157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4956120" y="3203280"/>
            <a:ext cx="1708200" cy="793800"/>
            <a:chOff x="4956120" y="3203280"/>
            <a:chExt cx="1708200" cy="793800"/>
          </a:xfrm>
        </p:grpSpPr>
        <p:sp>
          <p:nvSpPr>
            <p:cNvPr id="902" name=""/>
            <p:cNvSpPr/>
            <p:nvPr/>
          </p:nvSpPr>
          <p:spPr>
            <a:xfrm>
              <a:off x="5635800" y="3203640"/>
              <a:ext cx="33912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128" swAng="54182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128" swAng="5418247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10800000">
              <a:off x="5640840" y="3203280"/>
              <a:ext cx="33876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498" swAng="5340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498" swAng="534037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956120" y="3203640"/>
              <a:ext cx="170784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0" y="0"/>
                  </a:moveTo>
                  <a:arcTo wR="10800" hR="10800" stAng="-5406389" swAng="53926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0" y="0"/>
                  </a:moveTo>
                  <a:arcTo wR="10800" hR="10800" stAng="-5406389" swAng="539261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10800000">
              <a:off x="4956840" y="3203280"/>
              <a:ext cx="170748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498" swAng="5366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498" swAng="536610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6673680" y="3517920"/>
            <a:ext cx="157320" cy="157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845400" y="2163600"/>
            <a:ext cx="1216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45400" y="3627360"/>
            <a:ext cx="1216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413320" y="1981080"/>
            <a:ext cx="514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413320" y="3736800"/>
            <a:ext cx="514440" cy="11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443560" y="3382920"/>
            <a:ext cx="48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443560" y="2408400"/>
            <a:ext cx="48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207200" y="2165400"/>
            <a:ext cx="0" cy="363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207200" y="3262320"/>
            <a:ext cx="0" cy="363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440320" y="2411280"/>
            <a:ext cx="0" cy="362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440320" y="3021120"/>
            <a:ext cx="0" cy="36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443560" y="2774880"/>
            <a:ext cx="1763640" cy="484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442120" y="2530080"/>
            <a:ext cx="1763640" cy="484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892680" y="2673360"/>
            <a:ext cx="749160" cy="444600"/>
          </a:xfrm>
          <a:prstGeom prst="rightArrow">
            <a:avLst>
              <a:gd name="adj1" fmla="val 50000"/>
              <a:gd name="adj2" fmla="val 84290"/>
            </a:avLst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89440" y="1690560"/>
            <a:ext cx="7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8360" y="3519360"/>
            <a:ext cx="74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56320" y="2147760"/>
            <a:ext cx="7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955240" y="3062160"/>
            <a:ext cx="74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708800" y="1690560"/>
            <a:ext cx="7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707720" y="3519360"/>
            <a:ext cx="74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376040" y="2147760"/>
            <a:ext cx="7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7374960" y="3062160"/>
            <a:ext cx="74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012640" y="3062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012640" y="222408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817-6E69-420D-8A4F-9CB2195A55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RSFF „nem megengedett állapot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4971960" y="1482840"/>
            <a:ext cx="1708200" cy="793080"/>
            <a:chOff x="4971960" y="1482840"/>
            <a:chExt cx="1708200" cy="793080"/>
          </a:xfrm>
        </p:grpSpPr>
        <p:sp>
          <p:nvSpPr>
            <p:cNvPr id="932" name=""/>
            <p:cNvSpPr/>
            <p:nvPr/>
          </p:nvSpPr>
          <p:spPr>
            <a:xfrm>
              <a:off x="5650200" y="1482840"/>
              <a:ext cx="33912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128" swAng="5432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128" swAng="5432128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10800000">
              <a:off x="5656680" y="1484640"/>
              <a:ext cx="338760" cy="78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389" swAng="534026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389" swAng="534026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971960" y="1482840"/>
              <a:ext cx="170784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0" y="0"/>
                  </a:moveTo>
                  <a:arcTo wR="10800" hR="10800" stAng="-5406389" swAng="540638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0" y="0"/>
                  </a:moveTo>
                  <a:arcTo wR="10800" hR="10800" stAng="-5406389" swAng="540638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rot="10800000">
              <a:off x="4972680" y="1484640"/>
              <a:ext cx="1707480" cy="78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389" swAng="536599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389" swAng="536599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6689880" y="1795320"/>
            <a:ext cx="156960" cy="157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971960" y="2885040"/>
            <a:ext cx="1708200" cy="793080"/>
            <a:chOff x="4971960" y="2885040"/>
            <a:chExt cx="1708200" cy="793080"/>
          </a:xfrm>
        </p:grpSpPr>
        <p:sp>
          <p:nvSpPr>
            <p:cNvPr id="938" name=""/>
            <p:cNvSpPr/>
            <p:nvPr/>
          </p:nvSpPr>
          <p:spPr>
            <a:xfrm>
              <a:off x="5650200" y="2886120"/>
              <a:ext cx="339120" cy="7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128" swAng="5432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128" swAng="5432128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0800000">
              <a:off x="5656680" y="2885040"/>
              <a:ext cx="3387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498" swAng="5340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498" swAng="534037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71960" y="2886120"/>
              <a:ext cx="1707840" cy="7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0" y="0"/>
                  </a:moveTo>
                  <a:arcTo wR="10800" hR="10800" stAng="-5406389" swAng="540638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0" y="0"/>
                  </a:moveTo>
                  <a:arcTo wR="10800" hR="10800" stAng="-5406389" swAng="540638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 rot="10800000">
              <a:off x="4972680" y="2885040"/>
              <a:ext cx="170748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498" swAng="5366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498" swAng="536610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6689880" y="3198960"/>
            <a:ext cx="156960" cy="1569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861240" y="1844640"/>
            <a:ext cx="1216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861240" y="3308400"/>
            <a:ext cx="1216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429160" y="1660680"/>
            <a:ext cx="514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429160" y="3417840"/>
            <a:ext cx="514440" cy="11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459400" y="3063960"/>
            <a:ext cx="48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459400" y="2087640"/>
            <a:ext cx="48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223040" y="1847880"/>
            <a:ext cx="0" cy="3618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223040" y="2944800"/>
            <a:ext cx="0" cy="363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456160" y="2090880"/>
            <a:ext cx="0" cy="36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456160" y="2700360"/>
            <a:ext cx="0" cy="363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459400" y="2457360"/>
            <a:ext cx="1763640" cy="484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5457960" y="2211120"/>
            <a:ext cx="1763640" cy="484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908520" y="2354400"/>
            <a:ext cx="749160" cy="444240"/>
          </a:xfrm>
          <a:prstGeom prst="rightArrow">
            <a:avLst>
              <a:gd name="adj1" fmla="val 50000"/>
              <a:gd name="adj2" fmla="val 84358"/>
            </a:avLst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554400" y="1407960"/>
            <a:ext cx="1704600" cy="793800"/>
            <a:chOff x="554400" y="1407960"/>
            <a:chExt cx="1704600" cy="793800"/>
          </a:xfrm>
        </p:grpSpPr>
        <p:sp>
          <p:nvSpPr>
            <p:cNvPr id="957" name=""/>
            <p:cNvSpPr/>
            <p:nvPr/>
          </p:nvSpPr>
          <p:spPr>
            <a:xfrm>
              <a:off x="1233360" y="1407960"/>
              <a:ext cx="34272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00" y="0"/>
                  </a:moveTo>
                  <a:arcTo wR="10800" hR="10800" stAng="-5431830" swAng="54318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00" y="0"/>
                  </a:moveTo>
                  <a:arcTo wR="10800" hR="10800" stAng="-5431830" swAng="543183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rot="10800000">
              <a:off x="1236960" y="1408320"/>
              <a:ext cx="339480" cy="7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389" swAng="534026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389" swAng="534026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54400" y="1407960"/>
              <a:ext cx="170424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0" y="0"/>
                  </a:moveTo>
                  <a:arcTo wR="10800" hR="10800" stAng="-5406401" swAng="54064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0" y="0"/>
                  </a:moveTo>
                  <a:arcTo wR="10800" hR="10800" stAng="-5406401" swAng="540640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 rot="10800000">
              <a:off x="554400" y="1407960"/>
              <a:ext cx="1704600" cy="7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389" swAng="536598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389" swAng="5365987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2270160" y="1720800"/>
            <a:ext cx="156960" cy="157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54400" y="2808360"/>
            <a:ext cx="1704600" cy="793800"/>
            <a:chOff x="554400" y="2808360"/>
            <a:chExt cx="1704600" cy="793800"/>
          </a:xfrm>
        </p:grpSpPr>
        <p:sp>
          <p:nvSpPr>
            <p:cNvPr id="963" name=""/>
            <p:cNvSpPr/>
            <p:nvPr/>
          </p:nvSpPr>
          <p:spPr>
            <a:xfrm>
              <a:off x="1233360" y="2808360"/>
              <a:ext cx="34272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00" y="0"/>
                  </a:moveTo>
                  <a:arcTo wR="10800" hR="10800" stAng="-5431830" swAng="5417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00" y="0"/>
                  </a:moveTo>
                  <a:arcTo wR="10800" hR="10800" stAng="-5431830" swAng="541795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rot="10800000">
              <a:off x="1236960" y="2809080"/>
              <a:ext cx="33948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498" swAng="5340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498" swAng="534037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54400" y="2808360"/>
              <a:ext cx="170424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0" y="0"/>
                  </a:moveTo>
                  <a:arcTo wR="10800" hR="10800" stAng="-5406401" swAng="5392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0" y="0"/>
                  </a:moveTo>
                  <a:arcTo wR="10800" hR="10800" stAng="-5406401" swAng="5392625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10800000">
              <a:off x="554400" y="2809080"/>
              <a:ext cx="170460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498" swAng="53660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498" swAng="5366097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2270160" y="3122640"/>
            <a:ext cx="156960" cy="1569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441520" y="1768320"/>
            <a:ext cx="1216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441520" y="3232080"/>
            <a:ext cx="1216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009800" y="1585800"/>
            <a:ext cx="514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009800" y="3341520"/>
            <a:ext cx="514080" cy="11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039680" y="2987640"/>
            <a:ext cx="4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039680" y="2013120"/>
            <a:ext cx="4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805120" y="1770120"/>
            <a:ext cx="0" cy="363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805120" y="2867040"/>
            <a:ext cx="0" cy="363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036800" y="2016000"/>
            <a:ext cx="0" cy="362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036800" y="2625840"/>
            <a:ext cx="0" cy="36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039680" y="2379600"/>
            <a:ext cx="1765440" cy="484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1038240" y="2134800"/>
            <a:ext cx="1765440" cy="484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456160" y="2092320"/>
            <a:ext cx="0" cy="36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456160" y="2701800"/>
            <a:ext cx="0" cy="362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723920" y="1371600"/>
            <a:ext cx="7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723560" y="3200400"/>
            <a:ext cx="74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7467120" y="1828800"/>
            <a:ext cx="7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466760" y="2743200"/>
            <a:ext cx="74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04560" y="1295280"/>
            <a:ext cx="7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04200" y="3124080"/>
            <a:ext cx="74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971440" y="1752480"/>
            <a:ext cx="7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971080" y="2666880"/>
            <a:ext cx="74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85080" y="266688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85080" y="182880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5402160" y="4311720"/>
            <a:ext cx="1708200" cy="793080"/>
            <a:chOff x="5402160" y="4311720"/>
            <a:chExt cx="1708200" cy="793080"/>
          </a:xfrm>
        </p:grpSpPr>
        <p:sp>
          <p:nvSpPr>
            <p:cNvPr id="993" name=""/>
            <p:cNvSpPr/>
            <p:nvPr/>
          </p:nvSpPr>
          <p:spPr>
            <a:xfrm>
              <a:off x="6080400" y="4311720"/>
              <a:ext cx="33912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128" swAng="5432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128" swAng="5432128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rot="10800000">
              <a:off x="6086880" y="4313520"/>
              <a:ext cx="338760" cy="78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389" swAng="534026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389" swAng="534026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02160" y="4311720"/>
              <a:ext cx="170784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0" y="0"/>
                  </a:moveTo>
                  <a:arcTo wR="10800" hR="10800" stAng="-5406389" swAng="540638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0" y="0"/>
                  </a:moveTo>
                  <a:arcTo wR="10800" hR="10800" stAng="-5406389" swAng="540638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rot="10800000">
              <a:off x="5402880" y="4313520"/>
              <a:ext cx="1707480" cy="78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389" swAng="536599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389" swAng="536599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7120080" y="4624560"/>
            <a:ext cx="156960" cy="1569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5402160" y="5713920"/>
            <a:ext cx="1708200" cy="793080"/>
            <a:chOff x="5402160" y="5713920"/>
            <a:chExt cx="1708200" cy="793080"/>
          </a:xfrm>
        </p:grpSpPr>
        <p:sp>
          <p:nvSpPr>
            <p:cNvPr id="999" name=""/>
            <p:cNvSpPr/>
            <p:nvPr/>
          </p:nvSpPr>
          <p:spPr>
            <a:xfrm>
              <a:off x="6080400" y="5715000"/>
              <a:ext cx="339120" cy="7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128" swAng="5432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128" swAng="5432128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rot="10800000">
              <a:off x="6086880" y="5713920"/>
              <a:ext cx="3387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498" swAng="5340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498" swAng="534037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402160" y="5715000"/>
              <a:ext cx="1707840" cy="7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0" y="0"/>
                  </a:moveTo>
                  <a:arcTo wR="10800" hR="10800" stAng="-5406389" swAng="540638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0" y="0"/>
                  </a:moveTo>
                  <a:arcTo wR="10800" hR="10800" stAng="-5406389" swAng="540638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rot="10800000">
              <a:off x="5402880" y="5713920"/>
              <a:ext cx="170748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498" swAng="5366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498" swAng="536610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7120080" y="6027840"/>
            <a:ext cx="156960" cy="1569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291440" y="4673520"/>
            <a:ext cx="1216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291440" y="6137280"/>
            <a:ext cx="1216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859360" y="4489560"/>
            <a:ext cx="514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859360" y="6246720"/>
            <a:ext cx="514440" cy="11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889600" y="5892840"/>
            <a:ext cx="48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889600" y="4916520"/>
            <a:ext cx="48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653240" y="4676760"/>
            <a:ext cx="0" cy="3618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653240" y="5773680"/>
            <a:ext cx="0" cy="363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886360" y="4919760"/>
            <a:ext cx="0" cy="363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5886360" y="5529240"/>
            <a:ext cx="0" cy="363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889600" y="5286240"/>
            <a:ext cx="1763640" cy="484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888160" y="5040000"/>
            <a:ext cx="1763640" cy="484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4190400" y="5105520"/>
            <a:ext cx="749160" cy="444240"/>
          </a:xfrm>
          <a:prstGeom prst="leftRightArrow">
            <a:avLst>
              <a:gd name="adj1" fmla="val 50000"/>
              <a:gd name="adj2" fmla="val 33571"/>
            </a:avLst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22720" y="4238640"/>
            <a:ext cx="1704600" cy="793800"/>
            <a:chOff x="522720" y="4238640"/>
            <a:chExt cx="1704600" cy="793800"/>
          </a:xfrm>
        </p:grpSpPr>
        <p:sp>
          <p:nvSpPr>
            <p:cNvPr id="1018" name=""/>
            <p:cNvSpPr/>
            <p:nvPr/>
          </p:nvSpPr>
          <p:spPr>
            <a:xfrm>
              <a:off x="1201680" y="4238640"/>
              <a:ext cx="34272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00" y="0"/>
                  </a:moveTo>
                  <a:arcTo wR="10800" hR="10800" stAng="-5431830" swAng="54318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00" y="0"/>
                  </a:moveTo>
                  <a:arcTo wR="10800" hR="10800" stAng="-5431830" swAng="543183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10800000">
              <a:off x="1205280" y="4239000"/>
              <a:ext cx="339480" cy="7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389" swAng="534026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389" swAng="534026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22720" y="4238640"/>
              <a:ext cx="170424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0" y="0"/>
                  </a:moveTo>
                  <a:arcTo wR="10800" hR="10800" stAng="-5406401" swAng="54064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0" y="0"/>
                  </a:moveTo>
                  <a:arcTo wR="10800" hR="10800" stAng="-5406401" swAng="540640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10800000">
              <a:off x="522720" y="4239000"/>
              <a:ext cx="1704600" cy="7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389" swAng="536598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389" swAng="5365987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2238480" y="4551480"/>
            <a:ext cx="156960" cy="1569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522720" y="5638680"/>
            <a:ext cx="1704600" cy="793800"/>
            <a:chOff x="522720" y="5638680"/>
            <a:chExt cx="1704600" cy="793800"/>
          </a:xfrm>
        </p:grpSpPr>
        <p:sp>
          <p:nvSpPr>
            <p:cNvPr id="1024" name=""/>
            <p:cNvSpPr/>
            <p:nvPr/>
          </p:nvSpPr>
          <p:spPr>
            <a:xfrm>
              <a:off x="1201680" y="5638680"/>
              <a:ext cx="34272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00" y="0"/>
                  </a:moveTo>
                  <a:arcTo wR="10800" hR="10800" stAng="-5431830" swAng="5417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00" y="0"/>
                  </a:moveTo>
                  <a:arcTo wR="10800" hR="10800" stAng="-5431830" swAng="541795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10800000">
              <a:off x="1205280" y="5639400"/>
              <a:ext cx="33948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498" swAng="5340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498" swAng="5340371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22720" y="5638680"/>
              <a:ext cx="170424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0" y="0"/>
                  </a:moveTo>
                  <a:arcTo wR="10800" hR="10800" stAng="-5406401" swAng="5392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0" y="0"/>
                  </a:moveTo>
                  <a:arcTo wR="10800" hR="10800" stAng="-5406401" swAng="5392625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10800000">
              <a:off x="522720" y="5639400"/>
              <a:ext cx="170460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498" swAng="53660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498" swAng="5366097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2238480" y="5952960"/>
            <a:ext cx="156960" cy="157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409840" y="4599000"/>
            <a:ext cx="1216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409840" y="6062760"/>
            <a:ext cx="1216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977760" y="4416480"/>
            <a:ext cx="514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977760" y="6172200"/>
            <a:ext cx="514440" cy="11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008000" y="5818320"/>
            <a:ext cx="4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008000" y="4843440"/>
            <a:ext cx="4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773440" y="4600440"/>
            <a:ext cx="0" cy="363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773440" y="5697360"/>
            <a:ext cx="0" cy="363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004760" y="4846680"/>
            <a:ext cx="0" cy="36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004760" y="5456160"/>
            <a:ext cx="0" cy="362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008000" y="5210280"/>
            <a:ext cx="1765440" cy="484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1006560" y="4965480"/>
            <a:ext cx="1765080" cy="484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886360" y="4921200"/>
            <a:ext cx="0" cy="362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886360" y="5530680"/>
            <a:ext cx="0" cy="362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154120" y="4200480"/>
            <a:ext cx="7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153760" y="6029280"/>
            <a:ext cx="74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7897320" y="4657680"/>
            <a:ext cx="7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7896960" y="5572080"/>
            <a:ext cx="74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72520" y="4125960"/>
            <a:ext cx="7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72160" y="5954760"/>
            <a:ext cx="74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939760" y="4583160"/>
            <a:ext cx="7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939400" y="5497560"/>
            <a:ext cx="74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H="1" rot="16200000">
            <a:off x="6704640" y="3809880"/>
            <a:ext cx="749160" cy="444600"/>
          </a:xfrm>
          <a:prstGeom prst="rightArrow">
            <a:avLst>
              <a:gd name="adj1" fmla="val 50000"/>
              <a:gd name="adj2" fmla="val 84290"/>
            </a:avLst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419720" y="54864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885840" y="5715000"/>
            <a:ext cx="1229400" cy="947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instab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</a:rPr>
              <a:t>állap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D41C-7D45-41A8-8CC3-B9FD5612CA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ahoma"/>
              </a:rPr>
              <a:t>RS flip-flo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536400" y="2138400"/>
            <a:ext cx="3959280" cy="2743200"/>
            <a:chOff x="536400" y="2138400"/>
            <a:chExt cx="3959280" cy="2743200"/>
          </a:xfrm>
        </p:grpSpPr>
        <p:grpSp>
          <p:nvGrpSpPr>
            <p:cNvPr id="1056" name=""/>
            <p:cNvGrpSpPr/>
            <p:nvPr/>
          </p:nvGrpSpPr>
          <p:grpSpPr>
            <a:xfrm>
              <a:off x="614160" y="2138400"/>
              <a:ext cx="2133360" cy="990720"/>
              <a:chOff x="614160" y="2138400"/>
              <a:chExt cx="2133360" cy="990720"/>
            </a:xfrm>
          </p:grpSpPr>
          <p:sp>
            <p:nvSpPr>
              <p:cNvPr id="1057" name=""/>
              <p:cNvSpPr/>
              <p:nvPr/>
            </p:nvSpPr>
            <p:spPr>
              <a:xfrm>
                <a:off x="1465200" y="2138400"/>
                <a:ext cx="428400" cy="99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0" y="0"/>
                    </a:moveTo>
                    <a:arcTo wR="10800" hR="10800" stAng="-5425464" swAng="54254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0" y="0"/>
                    </a:moveTo>
                    <a:arcTo wR="10800" hR="10800" stAng="-5425464" swAng="5425464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rot="10800000">
                <a:off x="1468440" y="2138760"/>
                <a:ext cx="425160" cy="99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31"/>
                    </a:moveTo>
                    <a:arcTo wR="10800" hR="10800" stAng="-10777963" swAng="53523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31"/>
                    </a:moveTo>
                    <a:arcTo wR="10800" hR="10800" stAng="-10777963" swAng="535230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14160" y="2138400"/>
                <a:ext cx="2133360" cy="99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4" y="0"/>
                    </a:moveTo>
                    <a:arcTo wR="10800" hR="10800" stAng="-5405116" swAng="5405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4" y="0"/>
                    </a:moveTo>
                    <a:arcTo wR="10800" hR="10800" stAng="-5405116" swAng="5405116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0800000">
                <a:off x="614520" y="2138760"/>
                <a:ext cx="2133000" cy="99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31"/>
                    </a:moveTo>
                    <a:arcTo wR="10800" hR="10800" stAng="-10777963" swAng="53728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31"/>
                    </a:moveTo>
                    <a:arcTo wR="10800" hR="10800" stAng="-10777963" swAng="5372847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>
              <a:off x="2757600" y="2527200"/>
              <a:ext cx="203040" cy="2034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2" name=""/>
            <p:cNvGrpSpPr/>
            <p:nvPr/>
          </p:nvGrpSpPr>
          <p:grpSpPr>
            <a:xfrm>
              <a:off x="614160" y="3890880"/>
              <a:ext cx="2133360" cy="990720"/>
              <a:chOff x="614160" y="3890880"/>
              <a:chExt cx="2133360" cy="990720"/>
            </a:xfrm>
          </p:grpSpPr>
          <p:sp>
            <p:nvSpPr>
              <p:cNvPr id="1063" name=""/>
              <p:cNvSpPr/>
              <p:nvPr/>
            </p:nvSpPr>
            <p:spPr>
              <a:xfrm>
                <a:off x="1465200" y="3890880"/>
                <a:ext cx="428400" cy="99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0" y="0"/>
                    </a:moveTo>
                    <a:arcTo wR="10800" hR="10800" stAng="-5425464" swAng="54254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0" y="0"/>
                    </a:moveTo>
                    <a:arcTo wR="10800" hR="10800" stAng="-5425464" swAng="5425464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10800000">
                <a:off x="1468440" y="3891240"/>
                <a:ext cx="425160" cy="99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31"/>
                    </a:moveTo>
                    <a:arcTo wR="10800" hR="10800" stAng="-10777963" swAng="53523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31"/>
                    </a:moveTo>
                    <a:arcTo wR="10800" hR="10800" stAng="-10777963" swAng="535230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14160" y="3890880"/>
                <a:ext cx="2133360" cy="99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4" y="0"/>
                    </a:moveTo>
                    <a:arcTo wR="10800" hR="10800" stAng="-5405116" swAng="5405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4" y="0"/>
                    </a:moveTo>
                    <a:arcTo wR="10800" hR="10800" stAng="-5405116" swAng="5405116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0800000">
                <a:off x="614520" y="3891240"/>
                <a:ext cx="2133000" cy="99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31"/>
                    </a:moveTo>
                    <a:arcTo wR="10800" hR="10800" stAng="-10777963" swAng="53728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31"/>
                    </a:moveTo>
                    <a:arcTo wR="10800" hR="10800" stAng="-10777963" swAng="5372847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7" name=""/>
            <p:cNvSpPr/>
            <p:nvPr/>
          </p:nvSpPr>
          <p:spPr>
            <a:xfrm>
              <a:off x="2757600" y="4280040"/>
              <a:ext cx="203040" cy="203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975040" y="2590920"/>
              <a:ext cx="1520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975040" y="4419720"/>
              <a:ext cx="1520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36400" y="2362320"/>
              <a:ext cx="1292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36400" y="4572000"/>
              <a:ext cx="1292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222200" y="4114800"/>
              <a:ext cx="606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222200" y="2895480"/>
              <a:ext cx="606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429000" y="2593800"/>
              <a:ext cx="0" cy="454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429000" y="3965400"/>
              <a:ext cx="0" cy="454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219320" y="2898720"/>
              <a:ext cx="0" cy="453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219320" y="3660840"/>
              <a:ext cx="0" cy="453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222200" y="3355920"/>
              <a:ext cx="2206800" cy="606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1220760" y="3049200"/>
              <a:ext cx="2206800" cy="606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0" name=""/>
          <p:cNvSpPr/>
          <p:nvPr/>
        </p:nvSpPr>
        <p:spPr>
          <a:xfrm>
            <a:off x="288720" y="1766880"/>
            <a:ext cx="1418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R (res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88720" y="4662360"/>
            <a:ext cx="1104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S (s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946680" y="1995480"/>
            <a:ext cx="44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022640" y="3443400"/>
            <a:ext cx="441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5394240" y="2260440"/>
            <a:ext cx="344196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Q(t)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Q(t+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184720" y="2971800"/>
            <a:ext cx="3730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673360" y="5340240"/>
            <a:ext cx="1434960" cy="113040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289240" y="5638680"/>
            <a:ext cx="377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289240" y="6172200"/>
            <a:ext cx="377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118040" y="6172200"/>
            <a:ext cx="377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118040" y="5638680"/>
            <a:ext cx="377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3C0B-C432-4216-AD97-8C1BDAB37F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ahoma"/>
              </a:rPr>
              <a:t>D flip-flo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2" name=""/>
          <p:cNvSpPr/>
          <p:nvPr/>
        </p:nvSpPr>
        <p:spPr>
          <a:xfrm>
            <a:off x="4667400" y="2197080"/>
            <a:ext cx="1868400" cy="147312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168800" y="2511360"/>
            <a:ext cx="49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168800" y="3432240"/>
            <a:ext cx="49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545160" y="3279600"/>
            <a:ext cx="49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545160" y="2587680"/>
            <a:ext cx="49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3443400" y="2139840"/>
            <a:ext cx="736560" cy="677160"/>
            <a:chOff x="3443400" y="2139840"/>
            <a:chExt cx="736560" cy="677160"/>
          </a:xfrm>
        </p:grpSpPr>
        <p:sp>
          <p:nvSpPr>
            <p:cNvPr id="1098" name=""/>
            <p:cNvSpPr/>
            <p:nvPr/>
          </p:nvSpPr>
          <p:spPr>
            <a:xfrm>
              <a:off x="3444840" y="2144880"/>
              <a:ext cx="730080" cy="6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3" y="0"/>
                  </a:moveTo>
                  <a:arcTo wR="10800" hR="10800" stAng="-5414947" swAng="54149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3" y="0"/>
                  </a:moveTo>
                  <a:arcTo wR="10800" hR="10800" stAng="-5414947" swAng="5414947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rot="10800000">
              <a:off x="3450240" y="2143080"/>
              <a:ext cx="729720" cy="67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47"/>
                  </a:moveTo>
                  <a:arcTo wR="10800" hR="10800" stAng="-10751356" swAng="53364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47"/>
                  </a:moveTo>
                  <a:arcTo wR="10800" hR="10800" stAng="-10751356" swAng="533640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3444840" y="2139840"/>
              <a:ext cx="363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443400" y="2141640"/>
              <a:ext cx="0" cy="66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444840" y="2811600"/>
              <a:ext cx="363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3443400" y="3130560"/>
            <a:ext cx="736560" cy="677160"/>
            <a:chOff x="3443400" y="3130560"/>
            <a:chExt cx="736560" cy="677160"/>
          </a:xfrm>
        </p:grpSpPr>
        <p:sp>
          <p:nvSpPr>
            <p:cNvPr id="1104" name=""/>
            <p:cNvSpPr/>
            <p:nvPr/>
          </p:nvSpPr>
          <p:spPr>
            <a:xfrm>
              <a:off x="3444840" y="3135240"/>
              <a:ext cx="730080" cy="67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3" y="0"/>
                  </a:moveTo>
                  <a:arcTo wR="10800" hR="10800" stAng="-5414947" swAng="54149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3" y="0"/>
                  </a:moveTo>
                  <a:arcTo wR="10800" hR="10800" stAng="-5414947" swAng="5414947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rot="10800000">
              <a:off x="3450240" y="3133800"/>
              <a:ext cx="729720" cy="67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47"/>
                  </a:moveTo>
                  <a:arcTo wR="10800" hR="10800" stAng="-10751356" swAng="53364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47"/>
                  </a:moveTo>
                  <a:arcTo wR="10800" hR="10800" stAng="-10751356" swAng="533640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3444840" y="3130560"/>
              <a:ext cx="363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43400" y="3132000"/>
              <a:ext cx="0" cy="668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444840" y="3801960"/>
              <a:ext cx="363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3051000" y="2666880"/>
            <a:ext cx="37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603440" y="3276720"/>
            <a:ext cx="1825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051000" y="2286000"/>
            <a:ext cx="37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051000" y="3657600"/>
            <a:ext cx="37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048120" y="2670120"/>
            <a:ext cx="0" cy="9874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222200" y="3657600"/>
            <a:ext cx="1825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222200" y="2209680"/>
            <a:ext cx="758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6" name=""/>
          <p:cNvGrpSpPr/>
          <p:nvPr/>
        </p:nvGrpSpPr>
        <p:grpSpPr>
          <a:xfrm>
            <a:off x="2036880" y="1862280"/>
            <a:ext cx="1022400" cy="849240"/>
            <a:chOff x="2036880" y="1862280"/>
            <a:chExt cx="1022400" cy="849240"/>
          </a:xfrm>
        </p:grpSpPr>
        <p:sp>
          <p:nvSpPr>
            <p:cNvPr id="1117" name=""/>
            <p:cNvSpPr/>
            <p:nvPr/>
          </p:nvSpPr>
          <p:spPr>
            <a:xfrm>
              <a:off x="2036880" y="1862280"/>
              <a:ext cx="0" cy="849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039760" y="1862280"/>
              <a:ext cx="849600" cy="423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2038320" y="2287080"/>
              <a:ext cx="849240" cy="422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901960" y="2176560"/>
              <a:ext cx="157320" cy="1569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1" name=""/>
          <p:cNvSpPr/>
          <p:nvPr/>
        </p:nvSpPr>
        <p:spPr>
          <a:xfrm>
            <a:off x="1600200" y="2212920"/>
            <a:ext cx="0" cy="10638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94360" y="3672000"/>
            <a:ext cx="89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93640" y="1614600"/>
            <a:ext cx="1358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D (da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468760" y="4240080"/>
            <a:ext cx="3441960" cy="16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Clk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Q(t)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Q(t+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259240" y="4951440"/>
            <a:ext cx="3730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766800" y="4881600"/>
            <a:ext cx="1434960" cy="113040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clk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82680" y="5180040"/>
            <a:ext cx="377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82680" y="5713560"/>
            <a:ext cx="377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211480" y="5713560"/>
            <a:ext cx="377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211480" y="5180040"/>
            <a:ext cx="377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260880" y="4510080"/>
            <a:ext cx="1545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állap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egörz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565440" y="5730840"/>
            <a:ext cx="13888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tárol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653000" y="4956120"/>
            <a:ext cx="757080" cy="225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4649760" y="5640120"/>
            <a:ext cx="758880" cy="377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21FE-6577-4AB4-8BEC-6DBA8BA63E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1x1 bites memória cella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36" name=""/>
          <p:cNvSpPr/>
          <p:nvPr/>
        </p:nvSpPr>
        <p:spPr>
          <a:xfrm>
            <a:off x="3440160" y="1611360"/>
            <a:ext cx="1422360" cy="1117440"/>
          </a:xfrm>
          <a:prstGeom prst="rect">
            <a:avLst/>
          </a:prstGeom>
          <a:solidFill>
            <a:srgbClr val="5e5884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clk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87240" y="1903320"/>
            <a:ext cx="2738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049560" y="2436840"/>
            <a:ext cx="37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5626080" y="1566720"/>
            <a:ext cx="682560" cy="677880"/>
            <a:chOff x="5626080" y="1566720"/>
            <a:chExt cx="682560" cy="677880"/>
          </a:xfrm>
        </p:grpSpPr>
        <p:sp>
          <p:nvSpPr>
            <p:cNvPr id="1140" name=""/>
            <p:cNvSpPr/>
            <p:nvPr/>
          </p:nvSpPr>
          <p:spPr>
            <a:xfrm>
              <a:off x="5626080" y="1566720"/>
              <a:ext cx="0" cy="677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629320" y="1566720"/>
              <a:ext cx="679320" cy="338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5627520" y="1906200"/>
              <a:ext cx="679680" cy="336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2300400" y="2139840"/>
            <a:ext cx="736560" cy="677160"/>
            <a:chOff x="2300400" y="2139840"/>
            <a:chExt cx="736560" cy="677160"/>
          </a:xfrm>
        </p:grpSpPr>
        <p:sp>
          <p:nvSpPr>
            <p:cNvPr id="1144" name=""/>
            <p:cNvSpPr/>
            <p:nvPr/>
          </p:nvSpPr>
          <p:spPr>
            <a:xfrm>
              <a:off x="2301840" y="2144880"/>
              <a:ext cx="730080" cy="6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3" y="0"/>
                  </a:moveTo>
                  <a:arcTo wR="10800" hR="10800" stAng="-5414947" swAng="54149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3" y="0"/>
                  </a:moveTo>
                  <a:arcTo wR="10800" hR="10800" stAng="-5414947" swAng="5414947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rot="10800000">
              <a:off x="2307240" y="2143080"/>
              <a:ext cx="729720" cy="67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47"/>
                  </a:moveTo>
                  <a:arcTo wR="10800" hR="10800" stAng="-10751356" swAng="53364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47"/>
                  </a:moveTo>
                  <a:arcTo wR="10800" hR="10800" stAng="-10751356" swAng="533640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2301840" y="2139840"/>
              <a:ext cx="363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300400" y="2141640"/>
              <a:ext cx="0" cy="66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301840" y="2811600"/>
              <a:ext cx="363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4878360" y="1903320"/>
            <a:ext cx="757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905120" y="3279600"/>
            <a:ext cx="0" cy="987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990720" y="3889440"/>
            <a:ext cx="0" cy="377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906560" y="2665440"/>
            <a:ext cx="37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908000" y="3276720"/>
            <a:ext cx="1216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943600" y="2136600"/>
            <a:ext cx="0" cy="1597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992160" y="2284560"/>
            <a:ext cx="1290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6327720" y="1905120"/>
            <a:ext cx="1292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17320" y="1386000"/>
            <a:ext cx="837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6536880" y="1386000"/>
            <a:ext cx="101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-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745920" y="4433760"/>
            <a:ext cx="619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965960" y="4006800"/>
            <a:ext cx="1347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/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3130560" y="2938320"/>
            <a:ext cx="816120" cy="677880"/>
            <a:chOff x="3130560" y="2938320"/>
            <a:chExt cx="816120" cy="677880"/>
          </a:xfrm>
        </p:grpSpPr>
        <p:sp>
          <p:nvSpPr>
            <p:cNvPr id="1162" name=""/>
            <p:cNvSpPr/>
            <p:nvPr/>
          </p:nvSpPr>
          <p:spPr>
            <a:xfrm>
              <a:off x="3130560" y="2938320"/>
              <a:ext cx="0" cy="677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133800" y="2938320"/>
              <a:ext cx="679320" cy="338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3132000" y="3277800"/>
              <a:ext cx="679680" cy="336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25720" y="3191040"/>
              <a:ext cx="120960" cy="1206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5337000" y="3733920"/>
            <a:ext cx="606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878360" y="5484960"/>
            <a:ext cx="37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262480" y="4881600"/>
            <a:ext cx="1435320" cy="113040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x1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437160" y="6059520"/>
            <a:ext cx="0" cy="377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5599080" y="6059520"/>
            <a:ext cx="0" cy="377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707160" y="5484960"/>
            <a:ext cx="37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327200" y="4967280"/>
            <a:ext cx="837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841800" y="4967280"/>
            <a:ext cx="101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-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784760" y="6033960"/>
            <a:ext cx="619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6537960" y="5607000"/>
            <a:ext cx="1347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/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4586400" y="3435480"/>
            <a:ext cx="736560" cy="677160"/>
            <a:chOff x="4586400" y="3435480"/>
            <a:chExt cx="736560" cy="677160"/>
          </a:xfrm>
        </p:grpSpPr>
        <p:sp>
          <p:nvSpPr>
            <p:cNvPr id="1177" name=""/>
            <p:cNvSpPr/>
            <p:nvPr/>
          </p:nvSpPr>
          <p:spPr>
            <a:xfrm>
              <a:off x="4587840" y="3440160"/>
              <a:ext cx="730080" cy="67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3" y="0"/>
                  </a:moveTo>
                  <a:arcTo wR="10800" hR="10800" stAng="-5414947" swAng="54149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3" y="0"/>
                  </a:moveTo>
                  <a:arcTo wR="10800" hR="10800" stAng="-5414947" swAng="5414947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rot="10800000">
              <a:off x="4593240" y="3438360"/>
              <a:ext cx="729720" cy="67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47"/>
                  </a:moveTo>
                  <a:arcTo wR="10800" hR="10800" stAng="-10751356" swAng="53364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47"/>
                  </a:moveTo>
                  <a:arcTo wR="10800" hR="10800" stAng="-10751356" swAng="533640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4587840" y="3435480"/>
              <a:ext cx="363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586400" y="3436920"/>
              <a:ext cx="0" cy="668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587840" y="4106880"/>
              <a:ext cx="363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3965400" y="32767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267080" y="327960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993600" y="3886200"/>
            <a:ext cx="3578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270320" y="358128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990720" y="2289240"/>
            <a:ext cx="0" cy="15969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1905120" y="2670120"/>
            <a:ext cx="0" cy="606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30040" y="4952880"/>
            <a:ext cx="104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C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Se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1677240" y="518148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 CE"/>
              </a:rPr>
              <a:t>Write/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ADDE-B17A-4313-83AF-6BD5A85C4A3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Hardver: memória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mória típusok csoportosítása, jellemzé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M, RWM, RAM, C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x1bit -&gt; n x m b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F6B-33AE-4A94-BE5F-6CC3A64C4EB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1x4 bites memória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91" name=""/>
          <p:cNvSpPr/>
          <p:nvPr/>
        </p:nvSpPr>
        <p:spPr>
          <a:xfrm>
            <a:off x="1677960" y="2665440"/>
            <a:ext cx="378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1909800" y="1681200"/>
            <a:ext cx="1208160" cy="75096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x1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057400" y="2441520"/>
            <a:ext cx="0" cy="2253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125880" y="2055960"/>
            <a:ext cx="6080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88360" y="1766880"/>
            <a:ext cx="101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0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93320" y="1766880"/>
            <a:ext cx="119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0-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974520" y="6186600"/>
            <a:ext cx="619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413880" y="5759280"/>
            <a:ext cx="1347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/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676520" y="2670120"/>
            <a:ext cx="0" cy="3882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352680" y="2670120"/>
            <a:ext cx="0" cy="3882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971800" y="2441520"/>
            <a:ext cx="0" cy="2253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973240" y="2665440"/>
            <a:ext cx="378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297080" y="2055960"/>
            <a:ext cx="6080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677960" y="3808440"/>
            <a:ext cx="378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909800" y="2824200"/>
            <a:ext cx="1208160" cy="75096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x1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057400" y="3584520"/>
            <a:ext cx="0" cy="2253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3125880" y="3198960"/>
            <a:ext cx="6080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88360" y="2909880"/>
            <a:ext cx="101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1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793320" y="2909880"/>
            <a:ext cx="119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1-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971800" y="3584520"/>
            <a:ext cx="0" cy="2253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973240" y="3808440"/>
            <a:ext cx="378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297080" y="3198960"/>
            <a:ext cx="6080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677960" y="4951440"/>
            <a:ext cx="378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909800" y="3967200"/>
            <a:ext cx="1208160" cy="75096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x1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057400" y="4727520"/>
            <a:ext cx="0" cy="2253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125880" y="4341960"/>
            <a:ext cx="6080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88360" y="4052880"/>
            <a:ext cx="101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2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793320" y="4052880"/>
            <a:ext cx="119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2-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971800" y="4727520"/>
            <a:ext cx="0" cy="2253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973240" y="4951440"/>
            <a:ext cx="378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97080" y="4341960"/>
            <a:ext cx="6080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677960" y="6094440"/>
            <a:ext cx="378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909800" y="5110200"/>
            <a:ext cx="1208160" cy="75096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x1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057400" y="5870520"/>
            <a:ext cx="0" cy="2253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125880" y="5484960"/>
            <a:ext cx="6080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88360" y="5195880"/>
            <a:ext cx="101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3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793320" y="5195880"/>
            <a:ext cx="119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3-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2971800" y="5870520"/>
            <a:ext cx="0" cy="2253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973240" y="6094440"/>
            <a:ext cx="378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297080" y="5484960"/>
            <a:ext cx="6080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330960" y="3511440"/>
            <a:ext cx="2120760" cy="82548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x4 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629400" y="320364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307920" y="2681280"/>
            <a:ext cx="21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0  d1  d2  d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620120" y="320364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546520" y="3216240"/>
            <a:ext cx="619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086600" y="320364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8153280" y="320364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946840" y="3733920"/>
            <a:ext cx="377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946840" y="4114800"/>
            <a:ext cx="377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394240" y="4160880"/>
            <a:ext cx="85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/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F026-9D25-45E9-BC89-D13E55591F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4x8 bites memória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2" name=""/>
          <p:cNvSpPr/>
          <p:nvPr/>
        </p:nvSpPr>
        <p:spPr>
          <a:xfrm>
            <a:off x="3359160" y="2290680"/>
            <a:ext cx="1816200" cy="36828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x4 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228600" y="3902040"/>
            <a:ext cx="619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4194000" y="2055960"/>
            <a:ext cx="123192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04920" y="1873080"/>
            <a:ext cx="85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/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4191120" y="2057400"/>
            <a:ext cx="0" cy="22536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191120" y="2058840"/>
            <a:ext cx="0" cy="2257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920880" y="4043520"/>
            <a:ext cx="672840" cy="90144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-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745200" y="6184800"/>
            <a:ext cx="995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0  s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447920" y="4954680"/>
            <a:ext cx="0" cy="12175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066680" y="4954680"/>
            <a:ext cx="0" cy="12175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36400" y="4494240"/>
            <a:ext cx="378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1603440" y="4265640"/>
            <a:ext cx="2253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603440" y="4417920"/>
            <a:ext cx="3776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1828800" y="2820960"/>
            <a:ext cx="0" cy="14446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1981080" y="3963960"/>
            <a:ext cx="0" cy="453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127320" y="2589120"/>
            <a:ext cx="2253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975040" y="2360520"/>
            <a:ext cx="3776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127320" y="2970360"/>
            <a:ext cx="30448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124080" y="2592360"/>
            <a:ext cx="0" cy="3780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2975040" y="2817720"/>
            <a:ext cx="304488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2971800" y="2363760"/>
            <a:ext cx="0" cy="453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2590920" y="2516040"/>
            <a:ext cx="0" cy="3883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410080" y="2058840"/>
            <a:ext cx="0" cy="11401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H="1">
            <a:off x="1983960" y="3960720"/>
            <a:ext cx="98748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2593440" y="2970360"/>
            <a:ext cx="5302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407280" y="2290680"/>
            <a:ext cx="1815840" cy="36828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x4 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242120" y="2055960"/>
            <a:ext cx="123192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7238880" y="2057400"/>
            <a:ext cx="0" cy="22536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7238880" y="2058840"/>
            <a:ext cx="0" cy="2257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175440" y="2589120"/>
            <a:ext cx="2253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022800" y="2360520"/>
            <a:ext cx="378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72200" y="2592360"/>
            <a:ext cx="0" cy="3780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019920" y="2363760"/>
            <a:ext cx="0" cy="453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8458200" y="3201840"/>
            <a:ext cx="0" cy="11401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3359160" y="3433680"/>
            <a:ext cx="1816200" cy="36828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x4 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194000" y="3198960"/>
            <a:ext cx="123192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4191120" y="3200400"/>
            <a:ext cx="0" cy="22536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4191120" y="3201840"/>
            <a:ext cx="0" cy="2257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127320" y="3732120"/>
            <a:ext cx="2253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975040" y="3503520"/>
            <a:ext cx="3776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127320" y="4113360"/>
            <a:ext cx="30448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124080" y="3735360"/>
            <a:ext cx="0" cy="3780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975040" y="3960720"/>
            <a:ext cx="304488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971800" y="3506760"/>
            <a:ext cx="0" cy="453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410080" y="3201840"/>
            <a:ext cx="0" cy="11401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1983960" y="5103720"/>
            <a:ext cx="98748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2593440" y="4113360"/>
            <a:ext cx="5302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407280" y="3433680"/>
            <a:ext cx="1815840" cy="36828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x4 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7242120" y="3198960"/>
            <a:ext cx="123192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7238880" y="3200400"/>
            <a:ext cx="0" cy="22536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7238880" y="3201840"/>
            <a:ext cx="0" cy="2257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175440" y="3732120"/>
            <a:ext cx="2253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022800" y="3503520"/>
            <a:ext cx="378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172200" y="3735360"/>
            <a:ext cx="0" cy="3780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019920" y="3506760"/>
            <a:ext cx="0" cy="453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359160" y="4576680"/>
            <a:ext cx="1816200" cy="36828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x4 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194000" y="4341960"/>
            <a:ext cx="123192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4191120" y="4343400"/>
            <a:ext cx="0" cy="22536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191120" y="4344840"/>
            <a:ext cx="0" cy="2257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127320" y="4875120"/>
            <a:ext cx="2253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975040" y="4646520"/>
            <a:ext cx="3776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127320" y="5256360"/>
            <a:ext cx="30448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124080" y="4878360"/>
            <a:ext cx="0" cy="3780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2975040" y="5103720"/>
            <a:ext cx="304488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971800" y="4649760"/>
            <a:ext cx="0" cy="453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5410080" y="4344840"/>
            <a:ext cx="0" cy="11401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flipH="1">
            <a:off x="1832040" y="2817720"/>
            <a:ext cx="11397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2593440" y="5256360"/>
            <a:ext cx="5302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407280" y="4576680"/>
            <a:ext cx="1815840" cy="36828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x4 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7242120" y="4341960"/>
            <a:ext cx="123192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7238880" y="4343400"/>
            <a:ext cx="0" cy="22536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7238880" y="4344840"/>
            <a:ext cx="0" cy="2257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175440" y="4875120"/>
            <a:ext cx="2253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022800" y="4646520"/>
            <a:ext cx="378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172200" y="4878360"/>
            <a:ext cx="0" cy="3780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019920" y="4649760"/>
            <a:ext cx="0" cy="453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359160" y="5719680"/>
            <a:ext cx="1816200" cy="36828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x4 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4194000" y="5484960"/>
            <a:ext cx="123192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4191120" y="5486400"/>
            <a:ext cx="0" cy="22536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4191120" y="5487840"/>
            <a:ext cx="0" cy="2257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127320" y="6018120"/>
            <a:ext cx="2253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975040" y="5789520"/>
            <a:ext cx="3776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3127320" y="6399360"/>
            <a:ext cx="30448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124080" y="6021360"/>
            <a:ext cx="0" cy="3780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975040" y="6246720"/>
            <a:ext cx="304488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971800" y="5792760"/>
            <a:ext cx="0" cy="453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407280" y="5719680"/>
            <a:ext cx="1815840" cy="36828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x4 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7242120" y="5484960"/>
            <a:ext cx="123192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7238880" y="5486400"/>
            <a:ext cx="0" cy="22536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7238880" y="5487840"/>
            <a:ext cx="0" cy="2257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6175440" y="6018120"/>
            <a:ext cx="2253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022800" y="5789520"/>
            <a:ext cx="378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172200" y="6021360"/>
            <a:ext cx="0" cy="3780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019920" y="5792760"/>
            <a:ext cx="0" cy="453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8458200" y="2058840"/>
            <a:ext cx="0" cy="11401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8458200" y="4344840"/>
            <a:ext cx="0" cy="11401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 flipH="1">
            <a:off x="1832040" y="6246720"/>
            <a:ext cx="11397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flipH="1">
            <a:off x="2593440" y="6399360"/>
            <a:ext cx="5302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1603440" y="4570560"/>
            <a:ext cx="3776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1603440" y="4722840"/>
            <a:ext cx="2253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1981080" y="4573440"/>
            <a:ext cx="0" cy="5302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828800" y="4726080"/>
            <a:ext cx="0" cy="152064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36400" y="2513160"/>
            <a:ext cx="20545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5410080" y="1679400"/>
            <a:ext cx="0" cy="37800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8458200" y="1679400"/>
            <a:ext cx="0" cy="37800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4935960" y="1233360"/>
            <a:ext cx="101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7-d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984080" y="1233360"/>
            <a:ext cx="101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3-d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B317-9EB3-4902-B33A-EA30E421EC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ahoma"/>
              </a:rPr>
              <a:t>MOSFET tárolócella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50" name=""/>
          <p:cNvSpPr/>
          <p:nvPr/>
        </p:nvSpPr>
        <p:spPr>
          <a:xfrm>
            <a:off x="1450800" y="2590920"/>
            <a:ext cx="6702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374840" y="5105520"/>
            <a:ext cx="6854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2898720" y="3962520"/>
            <a:ext cx="7588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051000" y="4038480"/>
            <a:ext cx="454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3048120" y="3735360"/>
            <a:ext cx="0" cy="22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3505320" y="3735360"/>
            <a:ext cx="0" cy="22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3276720" y="4040280"/>
            <a:ext cx="0" cy="1063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5560920" y="3351240"/>
            <a:ext cx="0" cy="758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5484960" y="3503160"/>
            <a:ext cx="0" cy="45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564160" y="3960720"/>
            <a:ext cx="225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5564160" y="3502080"/>
            <a:ext cx="9129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508200" y="3730680"/>
            <a:ext cx="1976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6327720" y="3276720"/>
            <a:ext cx="7588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6480000" y="3200400"/>
            <a:ext cx="454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6934320" y="3279600"/>
            <a:ext cx="0" cy="22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477120" y="3279600"/>
            <a:ext cx="0" cy="22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705720" y="2593800"/>
            <a:ext cx="0" cy="606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346640" y="3962520"/>
            <a:ext cx="606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346640" y="4114800"/>
            <a:ext cx="606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641920" y="4572000"/>
            <a:ext cx="301680" cy="0"/>
          </a:xfrm>
          <a:prstGeom prst="line">
            <a:avLst/>
          </a:prstGeom>
          <a:ln w="76320">
            <a:solidFill>
              <a:srgbClr val="58f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498920" y="4572000"/>
            <a:ext cx="301680" cy="0"/>
          </a:xfrm>
          <a:prstGeom prst="line">
            <a:avLst/>
          </a:prstGeom>
          <a:ln w="76320">
            <a:solidFill>
              <a:srgbClr val="58f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648320" y="3736800"/>
            <a:ext cx="0" cy="22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4648320" y="4118040"/>
            <a:ext cx="0" cy="45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5791320" y="3965400"/>
            <a:ext cx="0" cy="606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2364840" y="3733920"/>
            <a:ext cx="682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6937200" y="3505320"/>
            <a:ext cx="835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362320" y="1984320"/>
            <a:ext cx="0" cy="3807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7772400" y="1984320"/>
            <a:ext cx="0" cy="3807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4800240" y="4419720"/>
            <a:ext cx="79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G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886200" y="3809880"/>
            <a:ext cx="42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3032280" y="2889360"/>
            <a:ext cx="5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318280" y="2813040"/>
            <a:ext cx="5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6537240" y="3575160"/>
            <a:ext cx="5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063880" y="1295280"/>
            <a:ext cx="4795200" cy="519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öltéstárolás a C kondenzáto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1371960" y="5791320"/>
            <a:ext cx="175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író vezeté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6537600" y="5784840"/>
            <a:ext cx="228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vasó vezeté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53360" y="4191120"/>
            <a:ext cx="22348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ír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edélyez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53360" y="2590920"/>
            <a:ext cx="22348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olvas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edélyez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629400" y="25146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7696080" y="342900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200400" y="50292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286000" y="36576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4572000" y="36576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6825-4FC3-419F-B602-0A834DC178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800" y="1871280"/>
            <a:ext cx="7772400" cy="142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artalom szerint elérhető memória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zociatív memó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9BC9-42FD-4760-A38B-ABDC948C968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sszociatív keresé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6" name=""/>
          <p:cNvSpPr/>
          <p:nvPr/>
        </p:nvSpPr>
        <p:spPr>
          <a:xfrm>
            <a:off x="201960" y="3501720"/>
            <a:ext cx="1485360" cy="57960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76320" bIns="7632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ulcs (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773960" y="1749240"/>
            <a:ext cx="1485360" cy="57960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76320" bIns="7632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ulcs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4773960" y="2435040"/>
            <a:ext cx="1485360" cy="57960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76320" bIns="7632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ulcs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773960" y="3120840"/>
            <a:ext cx="1485360" cy="57960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76320" bIns="7632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ulcs (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773960" y="4492440"/>
            <a:ext cx="1485360" cy="57960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76320" bIns="7632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ulcs (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298560" y="1749240"/>
            <a:ext cx="1444320" cy="57960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76320" bIns="7632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rték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298560" y="2435040"/>
            <a:ext cx="1444320" cy="57960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76320" bIns="7632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rték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298560" y="3120840"/>
            <a:ext cx="1444320" cy="57960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76320" bIns="7632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rték (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298560" y="4492440"/>
            <a:ext cx="1444320" cy="57960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76320" bIns="7632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rték (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2136600" y="2057400"/>
            <a:ext cx="25876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2267640" y="1538280"/>
            <a:ext cx="2402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összehasonlí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136600" y="2743200"/>
            <a:ext cx="25876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2267640" y="2224080"/>
            <a:ext cx="2402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összehasonlí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 flipH="1">
            <a:off x="2136600" y="3429000"/>
            <a:ext cx="25876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267640" y="2909880"/>
            <a:ext cx="2402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összehasonlí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 flipH="1">
            <a:off x="2136600" y="4800600"/>
            <a:ext cx="25876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267640" y="4281480"/>
            <a:ext cx="2402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összehasonlí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241960" y="3824280"/>
            <a:ext cx="45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766200" y="3824280"/>
            <a:ext cx="45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133720" y="2060640"/>
            <a:ext cx="0" cy="2739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1679400" y="3809880"/>
            <a:ext cx="454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7775640" y="2057400"/>
            <a:ext cx="453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7775640" y="2743200"/>
            <a:ext cx="453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7775640" y="3429000"/>
            <a:ext cx="453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7775640" y="4800600"/>
            <a:ext cx="453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8229600" y="2060640"/>
            <a:ext cx="0" cy="3882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7540200" y="5964120"/>
            <a:ext cx="1399680" cy="51912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rték (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2364840" y="6172200"/>
            <a:ext cx="426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lálat esetén a keresett érté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6554880" y="6173280"/>
            <a:ext cx="834840" cy="225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2209680" y="5562720"/>
            <a:ext cx="1447920" cy="380880"/>
          </a:xfrm>
          <a:prstGeom prst="rect">
            <a:avLst/>
          </a:prstGeom>
          <a:solidFill>
            <a:srgbClr val="58f44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152280" y="5562720"/>
            <a:ext cx="1408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z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isz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1297080" y="5944680"/>
            <a:ext cx="834840" cy="73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2971800" y="4954680"/>
            <a:ext cx="0" cy="606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9683-381B-4E9A-87E4-4B3263DF897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Gyorsítá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emória tömbök : </a:t>
            </a:r>
            <a:br>
              <a:rPr sz="32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1 hozzáféréssel több ad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átlapolt címzés (interleaved addressing) :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gyszerre több memória modulhoz hozzáférés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on-chip : EDO DRAM (Extended Data Outpu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1" name=""/>
          <p:cNvSpPr/>
          <p:nvPr/>
        </p:nvSpPr>
        <p:spPr>
          <a:xfrm>
            <a:off x="5029200" y="5105520"/>
            <a:ext cx="838080" cy="68580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895480" y="5105520"/>
            <a:ext cx="838440" cy="68580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962520" y="5105520"/>
            <a:ext cx="838080" cy="68580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1828800" y="5105520"/>
            <a:ext cx="838080" cy="685800"/>
          </a:xfrm>
          <a:prstGeom prst="rect">
            <a:avLst/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2286000" y="5794200"/>
            <a:ext cx="0" cy="378000"/>
          </a:xfrm>
          <a:prstGeom prst="line">
            <a:avLst/>
          </a:prstGeom>
          <a:ln w="127080">
            <a:solidFill>
              <a:srgbClr val="58f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286000" y="4727520"/>
            <a:ext cx="0" cy="378000"/>
          </a:xfrm>
          <a:prstGeom prst="line">
            <a:avLst/>
          </a:prstGeom>
          <a:ln w="127080">
            <a:solidFill>
              <a:srgbClr val="58f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276720" y="5794200"/>
            <a:ext cx="0" cy="378000"/>
          </a:xfrm>
          <a:prstGeom prst="line">
            <a:avLst/>
          </a:prstGeom>
          <a:ln w="127080">
            <a:solidFill>
              <a:srgbClr val="58f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276720" y="4727520"/>
            <a:ext cx="0" cy="378000"/>
          </a:xfrm>
          <a:prstGeom prst="line">
            <a:avLst/>
          </a:prstGeom>
          <a:ln w="127080">
            <a:solidFill>
              <a:srgbClr val="58f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343400" y="5794200"/>
            <a:ext cx="0" cy="378000"/>
          </a:xfrm>
          <a:prstGeom prst="line">
            <a:avLst/>
          </a:prstGeom>
          <a:ln w="127080">
            <a:solidFill>
              <a:srgbClr val="58f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343400" y="4727520"/>
            <a:ext cx="0" cy="378000"/>
          </a:xfrm>
          <a:prstGeom prst="line">
            <a:avLst/>
          </a:prstGeom>
          <a:ln w="127080">
            <a:solidFill>
              <a:srgbClr val="58f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5486400" y="5794200"/>
            <a:ext cx="0" cy="378000"/>
          </a:xfrm>
          <a:prstGeom prst="line">
            <a:avLst/>
          </a:prstGeom>
          <a:ln w="127080">
            <a:solidFill>
              <a:srgbClr val="58f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486400" y="4727520"/>
            <a:ext cx="0" cy="378000"/>
          </a:xfrm>
          <a:prstGeom prst="line">
            <a:avLst/>
          </a:prstGeom>
          <a:ln w="127080">
            <a:solidFill>
              <a:srgbClr val="58f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993600" y="4724280"/>
            <a:ext cx="5940720" cy="0"/>
          </a:xfrm>
          <a:prstGeom prst="line">
            <a:avLst/>
          </a:prstGeom>
          <a:ln w="127080">
            <a:solidFill>
              <a:srgbClr val="58f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841320" y="6172200"/>
            <a:ext cx="5940360" cy="0"/>
          </a:xfrm>
          <a:prstGeom prst="line">
            <a:avLst/>
          </a:prstGeom>
          <a:ln w="127080">
            <a:solidFill>
              <a:srgbClr val="58f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A23-695C-4AFB-9820-19A1538DCBB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ahoma"/>
              </a:rPr>
              <a:t>A szoftv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tasítás készlet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kált (RIS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mplex (CIS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épi kó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 végrehajtá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zoftverek csoportosítá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Utasításkészletek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Utasításrendsz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 CPU végrehajtható utasításai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Egy tipikus utasítás beosztá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Bonyolult utasításkészlet --&gt; rövidebb gépi kódú program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CISC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omplex 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nstruction 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et 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omputers. Komplex utasításkészletû számítógép (MOTOROLA, INTEL alapú gépek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RISC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educed 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nstruction 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et 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omputers. Csökkentett utasításkészletû számítógép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49" name=""/>
          <p:cNvGraphicFramePr/>
          <p:nvPr/>
        </p:nvGraphicFramePr>
        <p:xfrm>
          <a:off x="898560" y="3252960"/>
          <a:ext cx="7202160" cy="855360"/>
        </p:xfrm>
        <a:graphic>
          <a:graphicData uri="http://schemas.openxmlformats.org/drawingml/2006/table">
            <a:tbl>
              <a:tblPr/>
              <a:tblGrid>
                <a:gridCol w="2400840"/>
                <a:gridCol w="2400480"/>
                <a:gridCol w="240084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űveletkó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ímzési mó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íme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A program végrehajtásának folyamata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1" name=""/>
          <p:cNvSpPr/>
          <p:nvPr/>
        </p:nvSpPr>
        <p:spPr>
          <a:xfrm>
            <a:off x="4788000" y="1700280"/>
            <a:ext cx="2158920" cy="574560"/>
          </a:xfrm>
          <a:prstGeom prst="flowChartAlternateProcess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etőlt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2268360" y="3284640"/>
            <a:ext cx="2303640" cy="718920"/>
          </a:xfrm>
          <a:prstGeom prst="flowChartDecision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Interpreter nyel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859280" y="2565360"/>
            <a:ext cx="2089080" cy="936720"/>
          </a:xfrm>
          <a:prstGeom prst="flowChartDecision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Gépikó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95280" y="4292640"/>
            <a:ext cx="2089080" cy="576360"/>
          </a:xfrm>
          <a:prstGeom prst="flowChartAlternateProcess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dít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3995640" y="4292640"/>
            <a:ext cx="2089080" cy="576360"/>
          </a:xfrm>
          <a:prstGeom prst="flowChartAlternateProcess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Interpreter betőlté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804000" y="4149720"/>
            <a:ext cx="2089080" cy="576360"/>
          </a:xfrm>
          <a:prstGeom prst="flowChartAlternateProcess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égrehajt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57" name=""/>
          <p:cNvCxnSpPr>
            <a:stCxn id="1451" idx="2"/>
            <a:endCxn id="1453" idx="0"/>
          </p:cNvCxnSpPr>
          <p:nvPr/>
        </p:nvCxnSpPr>
        <p:spPr>
          <a:xfrm>
            <a:off x="5867280" y="2274480"/>
            <a:ext cx="3744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8" name=""/>
          <p:cNvCxnSpPr>
            <a:stCxn id="1453" idx="1"/>
            <a:endCxn id="1452" idx="0"/>
          </p:cNvCxnSpPr>
          <p:nvPr/>
        </p:nvCxnSpPr>
        <p:spPr>
          <a:xfrm flipV="1" rot="10800000">
            <a:off x="3420360" y="3032640"/>
            <a:ext cx="1438920" cy="2516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9" name=""/>
          <p:cNvCxnSpPr>
            <a:stCxn id="1453" idx="3"/>
            <a:endCxn id="1456" idx="0"/>
          </p:cNvCxnSpPr>
          <p:nvPr/>
        </p:nvCxnSpPr>
        <p:spPr>
          <a:xfrm>
            <a:off x="6948000" y="3033720"/>
            <a:ext cx="901080" cy="11167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0" name=""/>
          <p:cNvCxnSpPr>
            <a:stCxn id="1452" idx="1"/>
            <a:endCxn id="1454" idx="0"/>
          </p:cNvCxnSpPr>
          <p:nvPr/>
        </p:nvCxnSpPr>
        <p:spPr>
          <a:xfrm flipV="1" rot="10800000">
            <a:off x="1439280" y="3643920"/>
            <a:ext cx="829080" cy="6483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1" name=""/>
          <p:cNvCxnSpPr>
            <a:stCxn id="1452" idx="3"/>
            <a:endCxn id="1455" idx="0"/>
          </p:cNvCxnSpPr>
          <p:nvPr/>
        </p:nvCxnSpPr>
        <p:spPr>
          <a:xfrm>
            <a:off x="4571640" y="3644640"/>
            <a:ext cx="469080" cy="6483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2" name=""/>
          <p:cNvSpPr/>
          <p:nvPr/>
        </p:nvSpPr>
        <p:spPr>
          <a:xfrm>
            <a:off x="6948360" y="2708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3995640" y="270828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4500720" y="335772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1476360" y="33577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3995640" y="5589720"/>
            <a:ext cx="2089080" cy="576000"/>
          </a:xfrm>
          <a:prstGeom prst="flowChartAlternateProcess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égrehajt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95280" y="5589720"/>
            <a:ext cx="2089080" cy="576000"/>
          </a:xfrm>
          <a:prstGeom prst="flowChartAlternateProcess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égrehajt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8" name=""/>
          <p:cNvCxnSpPr>
            <a:stCxn id="1454" idx="2"/>
            <a:endCxn id="1467" idx="0"/>
          </p:cNvCxnSpPr>
          <p:nvPr/>
        </p:nvCxnSpPr>
        <p:spPr>
          <a:xfrm flipV="1" rot="10800000">
            <a:off x="1439280" y="4868640"/>
            <a:ext cx="1080" cy="721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9" name=""/>
          <p:cNvCxnSpPr>
            <a:stCxn id="1455" idx="2"/>
            <a:endCxn id="1466" idx="0"/>
          </p:cNvCxnSpPr>
          <p:nvPr/>
        </p:nvCxnSpPr>
        <p:spPr>
          <a:xfrm flipV="1" rot="10800000">
            <a:off x="5039640" y="4868640"/>
            <a:ext cx="1080" cy="721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zoftverek csoportosítása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ndszerprogram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géd program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kalmazói program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jlesztői környezet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PU - Memória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149480" y="2521080"/>
            <a:ext cx="1892160" cy="1587240"/>
          </a:xfrm>
          <a:prstGeom prst="rect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sz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11640" y="2521080"/>
            <a:ext cx="2730600" cy="1587240"/>
          </a:xfrm>
          <a:prstGeom prst="rect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ó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5960" y="1378080"/>
            <a:ext cx="8064360" cy="368280"/>
          </a:xfrm>
          <a:prstGeom prst="rect">
            <a:avLst/>
          </a:prstGeom>
          <a:solidFill>
            <a:srgbClr val="58f44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ímsí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645160"/>
            <a:ext cx="8064720" cy="368280"/>
          </a:xfrm>
          <a:prstGeom prst="rect">
            <a:avLst/>
          </a:prstGeom>
          <a:solidFill>
            <a:srgbClr val="58f44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datsínsí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1240" y="1758960"/>
            <a:ext cx="368280" cy="749160"/>
          </a:xfrm>
          <a:prstGeom prst="upArrow">
            <a:avLst>
              <a:gd name="adj1" fmla="val 50000"/>
              <a:gd name="adj2" fmla="val 101663"/>
            </a:avLst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54640" y="1758960"/>
            <a:ext cx="368280" cy="749160"/>
          </a:xfrm>
          <a:prstGeom prst="downArrow">
            <a:avLst>
              <a:gd name="adj1" fmla="val 50000"/>
              <a:gd name="adj2" fmla="val 101758"/>
            </a:avLst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7560" y="4121280"/>
            <a:ext cx="368280" cy="749160"/>
          </a:xfrm>
          <a:prstGeom prst="upArrow">
            <a:avLst>
              <a:gd name="adj1" fmla="val 50000"/>
              <a:gd name="adj2" fmla="val 101663"/>
            </a:avLst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54640" y="4121280"/>
            <a:ext cx="368280" cy="749160"/>
          </a:xfrm>
          <a:prstGeom prst="upArrow">
            <a:avLst>
              <a:gd name="adj1" fmla="val 50000"/>
              <a:gd name="adj2" fmla="val 101663"/>
            </a:avLst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7560" y="4883040"/>
            <a:ext cx="368280" cy="749520"/>
          </a:xfrm>
          <a:prstGeom prst="downArrow">
            <a:avLst>
              <a:gd name="adj1" fmla="val 50000"/>
              <a:gd name="adj2" fmla="val 101807"/>
            </a:avLst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54640" y="4883040"/>
            <a:ext cx="368280" cy="749520"/>
          </a:xfrm>
          <a:prstGeom prst="downArrow">
            <a:avLst>
              <a:gd name="adj1" fmla="val 50000"/>
              <a:gd name="adj2" fmla="val 101807"/>
            </a:avLst>
          </a:prstGeom>
          <a:solidFill>
            <a:srgbClr val="5e588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0F04-4543-4B91-9FD0-2AD892AF05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Rendszerprogramok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operációs rendszerek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Linu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FreeBs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Solar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S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I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WINDOWS 9x és 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OS/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Nowel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Ma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egéd programok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Vírus írtó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Tömőrítő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ile kezelő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Teszt program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ordító program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lkalmazói programok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zövegszerkesztő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áblázatkezelő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mutató készítő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tbázis kezelő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Ügyviteli rendszer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zövegszerkesztők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S W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Word perf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tarwri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ditor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Norton edi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Notep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i, joe , xemacs (Linuxos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áblázatkezelők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S exc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Quatro p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tarcal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datbázis kezelők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oxp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Db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Ügyviteli rendszerek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ktató program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nki rendszer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énztárgép program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Fejlesztői környezetek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Delph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Visual stud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S Of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devel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Q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flipV="1">
            <a:off x="3486240" y="1148400"/>
            <a:ext cx="2628720" cy="1866600"/>
          </a:xfrm>
          <a:custGeom>
            <a:avLst/>
            <a:gdLst>
              <a:gd name="textAreaLeft" fmla="*/ 943200 w 2628720"/>
              <a:gd name="textAreaRight" fmla="*/ 1685520 w 2628720"/>
              <a:gd name="textAreaTop" fmla="*/ 669600 h 1866600"/>
              <a:gd name="textAreaBottom" fmla="*/ 1197000 h 186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1" y="21600"/>
                </a:lnTo>
                <a:lnTo>
                  <a:pt x="10799" y="21600"/>
                </a:lnTo>
                <a:close/>
              </a:path>
            </a:pathLst>
          </a:custGeom>
          <a:gradFill rotWithShape="0">
            <a:gsLst>
              <a:gs pos="0">
                <a:srgbClr val="413d5b"/>
              </a:gs>
              <a:gs pos="100000">
                <a:srgbClr val="5e5884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165400" y="3029040"/>
            <a:ext cx="5270400" cy="1866960"/>
          </a:xfrm>
          <a:custGeom>
            <a:avLst/>
            <a:gdLst>
              <a:gd name="textAreaLeft" fmla="*/ 1158840 w 5270400"/>
              <a:gd name="textAreaRight" fmla="*/ 4111560 w 5270400"/>
              <a:gd name="textAreaTop" fmla="*/ 410400 h 1866960"/>
              <a:gd name="textAreaBottom" fmla="*/ 1456560 h 1866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gradFill rotWithShape="0">
            <a:gsLst>
              <a:gs pos="0">
                <a:srgbClr val="413d5b"/>
              </a:gs>
              <a:gs pos="100000">
                <a:srgbClr val="5e5884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844560" y="4908240"/>
            <a:ext cx="7912080" cy="1866960"/>
          </a:xfrm>
          <a:custGeom>
            <a:avLst/>
            <a:gdLst>
              <a:gd name="textAreaLeft" fmla="*/ 1377000 w 7912080"/>
              <a:gd name="textAreaRight" fmla="*/ 6535080 w 7912080"/>
              <a:gd name="textAreaTop" fmla="*/ 324720 h 1866960"/>
              <a:gd name="textAreaBottom" fmla="*/ 1542240 h 1866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983" y="21600"/>
                </a:lnTo>
                <a:lnTo>
                  <a:pt x="3617" y="21600"/>
                </a:lnTo>
                <a:close/>
              </a:path>
            </a:pathLst>
          </a:custGeom>
          <a:gradFill rotWithShape="0">
            <a:gsLst>
              <a:gs pos="0">
                <a:srgbClr val="413d5b"/>
              </a:gs>
              <a:gs pos="100000">
                <a:srgbClr val="5e5884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Memória hierarchia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36800" y="4943520"/>
            <a:ext cx="144684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átté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ó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5360" y="1157400"/>
            <a:ext cx="34538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belső” memó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regiszter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puffer memóriá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ikroprogram tá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72280" y="2822400"/>
            <a:ext cx="287028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özponti memór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lső szintű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í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720" y="1614600"/>
            <a:ext cx="17532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~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~100 by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CPU-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2720" y="3214800"/>
            <a:ext cx="243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~Mbyte, ~10 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64800" y="4041720"/>
            <a:ext cx="4072680" cy="8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égrehajtás alatti progra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t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66200" y="5921280"/>
            <a:ext cx="6870960" cy="8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PU által nem közvetlenül elérhet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m aktív programok, nagymennyiségű adat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42560" y="5043600"/>
            <a:ext cx="2117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~ Gbyte, ~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37DC-9579-4716-B554-CD34F37D0F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Memóriák jellemzés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„mennyiségi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258640"/>
            <a:ext cx="7696080" cy="374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apacitás :</a:t>
            </a:r>
            <a:br>
              <a:rPr sz="32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tárolható adat mennyisé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legkisebb címezhető egysé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hozzáférési szélesség :</a:t>
            </a:r>
            <a:br>
              <a:rPr sz="32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gy hozzáféréssel elérhető adatmennyisé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átlapolhatósági fok :</a:t>
            </a:r>
            <a:br>
              <a:rPr sz="32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gyszerre müködhető modul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lérési rendszer 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D7B-FE53-4696-9C62-69ED31F53B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Memóriák jellemzés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„időbeli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lérési idő :</a:t>
            </a:r>
            <a:br>
              <a:rPr sz="32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időtartam az olvasási igénytől az adat megérkezésé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iklusidő :</a:t>
            </a:r>
            <a:br>
              <a:rPr sz="32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ét hozzáférés közti minimális id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átlapolhatósági fok :</a:t>
            </a:r>
            <a:br>
              <a:rPr sz="32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gyszerre müködhető modul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datátviteli sebesség : 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FFE-B383-403F-83AC-3480DF5998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Memóriák osztályozása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185920" y="1341360"/>
            <a:ext cx="4703760" cy="579960"/>
          </a:xfrm>
          <a:prstGeom prst="rect">
            <a:avLst/>
          </a:pr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zikai működési elv sze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408400"/>
            <a:ext cx="4495680" cy="1095480"/>
          </a:xfrm>
          <a:prstGeom prst="rect">
            <a:avLst/>
          </a:pr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ágn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remanenes mágneses vek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03000" y="2514600"/>
            <a:ext cx="3438720" cy="1095480"/>
          </a:xfrm>
          <a:prstGeom prst="rect">
            <a:avLst/>
          </a:pr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élvezető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bistabil multivibrá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03920" y="4465800"/>
            <a:ext cx="2324880" cy="579960"/>
          </a:xfrm>
          <a:prstGeom prst="rect">
            <a:avLst/>
          </a:pr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érés sze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9640" y="5608800"/>
            <a:ext cx="3400560" cy="579960"/>
          </a:xfrm>
          <a:prstGeom prst="rect">
            <a:avLst/>
          </a:pr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ím szerint elérhet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25640" y="5684760"/>
            <a:ext cx="4147560" cy="1067400"/>
          </a:xfrm>
          <a:prstGeom prst="rect">
            <a:avLst/>
          </a:pr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rtalom szerint elérhet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asszociatí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364840" y="1984320"/>
            <a:ext cx="1140120" cy="378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61040" y="1984320"/>
            <a:ext cx="826920" cy="530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136240" y="5108400"/>
            <a:ext cx="1521000" cy="4543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6120" y="5108400"/>
            <a:ext cx="1673280" cy="530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0837-029D-4063-AC3D-40F050A619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Memóriák elérési rendszer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575360" y="1647720"/>
            <a:ext cx="5723280" cy="1006560"/>
          </a:xfrm>
          <a:prstGeom prst="rect">
            <a:avLst/>
          </a:pr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véletlen” elérésű (címfüggetlen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RAM - Random Access Memo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24640" y="3095640"/>
            <a:ext cx="3893040" cy="1095480"/>
          </a:xfrm>
          <a:prstGeom prst="rect">
            <a:avLst/>
          </a:pr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orbaállá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FIFO - First In First Ou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4680" y="3095640"/>
            <a:ext cx="3868560" cy="1095480"/>
          </a:xfrm>
          <a:prstGeom prst="rect">
            <a:avLst/>
          </a:pr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verem rendszer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LIFO - Last In First Ou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37000" y="4772160"/>
            <a:ext cx="5631840" cy="1006560"/>
          </a:xfrm>
          <a:prstGeom prst="rect">
            <a:avLst/>
          </a:pr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sszociatív (tartalom címzésű) </a:t>
            </a:r>
            <a:br>
              <a:rPr sz="3200"/>
            </a:b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CAM - Content Adressable Memo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35800" y="6124680"/>
            <a:ext cx="1046160" cy="579960"/>
          </a:xfrm>
          <a:prstGeom prst="rect">
            <a:avLst/>
          </a:pr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01320" y="6124680"/>
            <a:ext cx="1476000" cy="579960"/>
          </a:xfrm>
          <a:prstGeom prst="rect">
            <a:avLst/>
          </a:pr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klik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F22C-A87B-49E8-B532-F9009DAED5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8:34:54Z</dcterms:created>
  <dc:creator>Nagymáté Péter</dc:creator>
  <dc:description/>
  <dc:language>en-US</dc:language>
  <cp:lastModifiedBy>Nagymáté Péter</cp:lastModifiedBy>
  <dcterms:modified xsi:type="dcterms:W3CDTF">2003-09-23T10:50:53Z</dcterms:modified>
  <cp:revision>7</cp:revision>
  <dc:subject/>
  <dc:title>Számítástechnikai alapismertek</dc:title>
</cp:coreProperties>
</file>